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.wmf" ContentType="image/x-wmf"/>
  <Override PartName="/ppt/media/image58.png" ContentType="image/png"/>
  <Override PartName="/ppt/media/image54.png" ContentType="image/png"/>
  <Override PartName="/ppt/media/image52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56.png" ContentType="image/png"/>
  <Override PartName="/ppt/media/image17.wmf" ContentType="image/x-wmf"/>
  <Override PartName="/ppt/media/image53.wmf" ContentType="image/x-wmf"/>
  <Override PartName="/ppt/media/image13.png" ContentType="image/png"/>
  <Override PartName="/ppt/media/image51.png" ContentType="image/png"/>
  <Override PartName="/ppt/media/image23.png" ContentType="image/png"/>
  <Override PartName="/ppt/media/image60.png" ContentType="image/png"/>
  <Override PartName="/ppt/media/image21.wmf" ContentType="image/x-wmf"/>
  <Override PartName="/ppt/media/image24.png" ContentType="image/png"/>
  <Override PartName="/ppt/media/image64.wmf" ContentType="image/x-wmf"/>
  <Override PartName="/ppt/media/image61.png" ContentType="image/png"/>
  <Override PartName="/ppt/media/image22.wmf" ContentType="image/x-wmf"/>
  <Override PartName="/ppt/media/image62.png" ContentType="image/png"/>
  <Override PartName="/ppt/media/image63.png" ContentType="image/png"/>
  <Override PartName="/ppt/media/image65.wmf" ContentType="image/x-wmf"/>
  <Override PartName="/ppt/media/image67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86.wmf" ContentType="image/x-wmf"/>
  <Override PartName="/ppt/media/image75.png" ContentType="image/png"/>
  <Override PartName="/ppt/media/image81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85.png" ContentType="image/png"/>
  <Override PartName="/ppt/media/image27.png" ContentType="image/png"/>
  <Override PartName="/ppt/media/image12.wmf" ContentType="image/x-wmf"/>
  <Override PartName="/ppt/media/image5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2B0-CF18-4012-91B6-4F2CA591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4C5-58E7-4D95-BA35-E7A2973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C6A-754C-4D1C-A8EF-889268AB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629-6DED-407B-96AD-E3649DCB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A5FBA-96A0-4A2E-A95C-60B36BED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F9939-C841-4674-B2CA-28E6C11C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857AE-392C-4BAF-9105-28A48823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2E82B-FCD0-4A5B-90D9-1FBC3598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E9AB9-F363-4B13-84C6-1720CD7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602D-C63B-4B7C-AA44-5A7BF65B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C6C2-FC65-486D-84E8-DF5775E9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FAA-5073-4DB4-8C57-11F35CBB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C4EBD-C1CE-4E79-A427-F44013F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49E5B-234B-43FE-9E48-9A5E35E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B51A7-756F-4735-B98B-22782461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AFBF9-7C49-4FEC-9D1F-37A86712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6F713-9AAF-4BA7-8206-542BEF73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94E-4DFD-49CD-ABA1-FEF7094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801-3F6C-49DB-8052-549B971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2D8-267B-4FB4-8292-F6403F24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A09-81BE-4A0A-B0CB-C9C9722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426-D84D-4522-B1E6-0B44D4D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41F-3364-4B95-9965-B24DAAB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0F3-6F6F-4578-9B81-17CE63C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CCB-07D0-49DF-B335-2AF96A029749}" type="datetime">
              <a:rPr b="0" lang="sr-Latn-C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FB9-A917-42EC-BA64-EF0FB63401E5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3ED-495E-4B68-8841-E6755D445CE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EED8-1F0F-468B-8EF9-F9F8443157B9}" type="datetime">
              <a:rPr b="0" lang="sr-Latn-C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png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putokazi"/>
          <p:cNvPicPr/>
          <p:nvPr/>
        </p:nvPicPr>
        <p:blipFill>
          <a:blip r:embed="rId1"/>
          <a:stretch/>
        </p:blipFill>
        <p:spPr>
          <a:xfrm>
            <a:off x="4213080" y="-244440"/>
            <a:ext cx="3883320" cy="724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300"/>
            </a:br>
            <a:r>
              <a:rPr b="0" lang="sr-Latn-CS" sz="7300" spc="-1" strike="noStrike">
                <a:solidFill>
                  <a:srgbClr val="ffffcc"/>
                </a:solidFill>
                <a:latin typeface="Tahoma"/>
              </a:rPr>
              <a:t>Excel</a:t>
            </a:r>
            <a:br>
              <a:rPr sz="4000"/>
            </a:br>
            <a:endParaRPr b="0" lang="en-US" sz="7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900000" y="3860640"/>
            <a:ext cx="36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cc"/>
                </a:solidFill>
                <a:latin typeface="Arial"/>
              </a:rPr>
              <a:t>Autor: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Cakovic Mu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7" descr="pticica"/>
          <p:cNvPicPr/>
          <p:nvPr/>
        </p:nvPicPr>
        <p:blipFill>
          <a:blip r:embed="rId2"/>
          <a:stretch/>
        </p:blipFill>
        <p:spPr>
          <a:xfrm>
            <a:off x="7524720" y="5300640"/>
            <a:ext cx="469800" cy="5954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9"/>
          <p:cNvSpPr/>
          <p:nvPr/>
        </p:nvSpPr>
        <p:spPr>
          <a:xfrm>
            <a:off x="5651640" y="5948280"/>
            <a:ext cx="20872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ovi proz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5076720" y="4508640"/>
            <a:ext cx="20163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 rot="475200">
            <a:off x="4642920" y="1844280"/>
            <a:ext cx="27576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rtiranje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dat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364000" y="5372280"/>
            <a:ext cx="187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2. Radni listo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653080" y="3787920"/>
            <a:ext cx="13669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4.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5076720" y="2779560"/>
            <a:ext cx="1656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. Form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003640" y="765000"/>
            <a:ext cx="15145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0792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Arial"/>
              </a:rPr>
              <a:t>Škola za dizajn tekstila i kož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89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03280" y="115920"/>
          <a:ext cx="914400" cy="8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15920"/>
                    <a:ext cx="914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091-07E3-47FF-8CF2-314FEC353E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31"/>
          <p:cNvSpPr/>
          <p:nvPr/>
        </p:nvSpPr>
        <p:spPr>
          <a:xfrm>
            <a:off x="179280" y="620640"/>
            <a:ext cx="4572000" cy="5832720"/>
          </a:xfrm>
          <a:custGeom>
            <a:avLst/>
            <a:gdLst>
              <a:gd name="textAreaLeft" fmla="*/ 223200 w 4572000"/>
              <a:gd name="textAreaRight" fmla="*/ 4348800 w 4572000"/>
              <a:gd name="textAreaTop" fmla="*/ 223200 h 5832720"/>
              <a:gd name="textAreaBottom" fmla="*/ 5609520 h 5832720"/>
            </a:gdLst>
            <a:ahLst/>
            <a:rect l="textAreaLeft" t="textAreaTop" r="textAreaRight" b="textAreaBottom"/>
            <a:pathLst>
              <a:path w="21600" h="27556">
                <a:moveTo>
                  <a:pt x="3600" y="0"/>
                </a:moveTo>
                <a:arcTo wR="3600" hR="3600" stAng="16200000" swAng="-5400000"/>
                <a:lnTo>
                  <a:pt x="0" y="23956"/>
                </a:lnTo>
                <a:arcTo wR="3600" hR="3600" stAng="10800000" swAng="-5400000"/>
                <a:lnTo>
                  <a:pt x="18000" y="275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a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Označavanje ćel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3" descr="er59"/>
          <p:cNvPicPr/>
          <p:nvPr/>
        </p:nvPicPr>
        <p:blipFill>
          <a:blip r:embed="rId1"/>
          <a:stretch/>
        </p:blipFill>
        <p:spPr>
          <a:xfrm>
            <a:off x="2340000" y="3933720"/>
            <a:ext cx="2054160" cy="2160720"/>
          </a:xfrm>
          <a:prstGeom prst="rect">
            <a:avLst/>
          </a:prstGeom>
          <a:ln w="0">
            <a:noFill/>
          </a:ln>
        </p:spPr>
      </p:pic>
      <p:sp>
        <p:nvSpPr>
          <p:cNvPr id="195" name="Line 4"/>
          <p:cNvSpPr/>
          <p:nvPr/>
        </p:nvSpPr>
        <p:spPr>
          <a:xfrm>
            <a:off x="3059280" y="3860640"/>
            <a:ext cx="0" cy="2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er60"/>
          <p:cNvPicPr/>
          <p:nvPr/>
        </p:nvPicPr>
        <p:blipFill>
          <a:blip r:embed="rId2"/>
          <a:stretch/>
        </p:blipFill>
        <p:spPr>
          <a:xfrm>
            <a:off x="1332000" y="1025640"/>
            <a:ext cx="2047680" cy="19717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6"/>
          <p:cNvSpPr/>
          <p:nvPr/>
        </p:nvSpPr>
        <p:spPr>
          <a:xfrm>
            <a:off x="2266920" y="5373720"/>
            <a:ext cx="43200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1332000" y="1025640"/>
            <a:ext cx="37944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116000" y="907920"/>
            <a:ext cx="216000" cy="262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971640" y="314172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ko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1 klik na slovo za oznaku ko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2843280" y="4076640"/>
            <a:ext cx="43164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1042920" y="692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cele tab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>
            <a:off x="2050920" y="551664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6"/>
          <p:cNvSpPr/>
          <p:nvPr/>
        </p:nvSpPr>
        <p:spPr>
          <a:xfrm>
            <a:off x="0" y="4221000"/>
            <a:ext cx="24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Označavanje re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1 klik na broj re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Object 27"/>
          <p:cNvGraphicFramePr/>
          <p:nvPr/>
        </p:nvGraphicFramePr>
        <p:xfrm>
          <a:off x="5724360" y="1844640"/>
          <a:ext cx="232740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844640"/>
                    <a:ext cx="2327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AutoShape 29"/>
          <p:cNvSpPr/>
          <p:nvPr/>
        </p:nvSpPr>
        <p:spPr>
          <a:xfrm>
            <a:off x="5796000" y="3789360"/>
            <a:ext cx="1368360" cy="259236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2592360"/>
              <a:gd name="textAreaBottom" fmla="*/ 2525760 h 2592360"/>
            </a:gdLst>
            <a:ahLst/>
            <a:rect l="textAreaLeft" t="textAreaTop" r="textAreaRight" b="textAreaBottom"/>
            <a:pathLst>
              <a:path w="21600" h="40916">
                <a:moveTo>
                  <a:pt x="3600" y="0"/>
                </a:moveTo>
                <a:arcTo wR="3600" hR="3600" stAng="16200000" swAng="-5400000"/>
                <a:lnTo>
                  <a:pt x="0" y="37316"/>
                </a:lnTo>
                <a:arcTo wR="3600" hR="3600" stAng="10800000" swAng="-5400000"/>
                <a:lnTo>
                  <a:pt x="18000" y="409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5364000" y="765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Komande koje se mogu izvršiti sa označenim kolonama ili redov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2" descr=""/>
          <p:cNvPicPr/>
          <p:nvPr/>
        </p:nvPicPr>
        <p:blipFill>
          <a:blip r:embed="rId5"/>
          <a:stretch/>
        </p:blipFill>
        <p:spPr>
          <a:xfrm>
            <a:off x="8005680" y="1916280"/>
            <a:ext cx="1138320" cy="53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B1F0-2005-4691-9CD0-A05D353747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95280" y="328464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Označavanje grupe ćelija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– kliknuti na ćeliju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i istovremeno držati pritisnut taste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Označavanje grupe ćel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2376360" cy="157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3744720" cy="1638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8"/>
          <p:cNvSpPr/>
          <p:nvPr/>
        </p:nvSpPr>
        <p:spPr>
          <a:xfrm>
            <a:off x="4356000" y="3213000"/>
            <a:ext cx="457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Označavanje više redova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ili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više kolona – kliknuti na  broj za oznaku reda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ili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slovo za oznaku kolone i istovremeno držati pritisnut taste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B20-1E53-4ABB-AD75-852A005D41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y35"/>
          <p:cNvPicPr/>
          <p:nvPr/>
        </p:nvPicPr>
        <p:blipFill>
          <a:blip r:embed="rId1"/>
          <a:stretch/>
        </p:blipFill>
        <p:spPr>
          <a:xfrm>
            <a:off x="2411280" y="189000"/>
            <a:ext cx="1873440" cy="77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AutoShape 5"/>
          <p:cNvSpPr/>
          <p:nvPr/>
        </p:nvSpPr>
        <p:spPr>
          <a:xfrm>
            <a:off x="3851280" y="547560"/>
            <a:ext cx="36036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 flipH="1" flipV="1">
            <a:off x="4067280" y="907920"/>
            <a:ext cx="144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79640" y="18900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Popunjavanje ćeli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sadrža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8" descr="ey21"/>
          <p:cNvPicPr/>
          <p:nvPr/>
        </p:nvPicPr>
        <p:blipFill>
          <a:blip r:embed="rId2"/>
          <a:stretch/>
        </p:blipFill>
        <p:spPr>
          <a:xfrm>
            <a:off x="6443640" y="620640"/>
            <a:ext cx="1584360" cy="10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0" name="Line 9"/>
          <p:cNvSpPr/>
          <p:nvPr/>
        </p:nvSpPr>
        <p:spPr>
          <a:xfrm flipH="1">
            <a:off x="7740720" y="1341360"/>
            <a:ext cx="1440" cy="722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796000" y="2133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99"/>
                </a:solidFill>
                <a:latin typeface="Arial"/>
              </a:rPr>
              <a:t>Povlačimo krstić na dole i kopiramo sadrž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1465200" cy="2262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"/>
          <p:cNvPicPr/>
          <p:nvPr/>
        </p:nvPicPr>
        <p:blipFill>
          <a:blip r:embed="rId4"/>
          <a:stretch/>
        </p:blipFill>
        <p:spPr>
          <a:xfrm>
            <a:off x="2050920" y="4110120"/>
            <a:ext cx="1301760" cy="274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"/>
          <p:cNvPicPr/>
          <p:nvPr/>
        </p:nvPicPr>
        <p:blipFill>
          <a:blip r:embed="rId5"/>
          <a:stretch/>
        </p:blipFill>
        <p:spPr>
          <a:xfrm>
            <a:off x="5724360" y="2997360"/>
            <a:ext cx="1055880" cy="146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"/>
          <p:cNvPicPr/>
          <p:nvPr/>
        </p:nvPicPr>
        <p:blipFill>
          <a:blip r:embed="rId6"/>
          <a:stretch/>
        </p:blipFill>
        <p:spPr>
          <a:xfrm>
            <a:off x="7164360" y="2924280"/>
            <a:ext cx="1343160" cy="272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15"/>
          <p:cNvGraphicFramePr/>
          <p:nvPr/>
        </p:nvGraphicFramePr>
        <p:xfrm>
          <a:off x="604800" y="2130480"/>
          <a:ext cx="1365120" cy="7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2130480"/>
                    <a:ext cx="13651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7"/>
          <p:cNvGraphicFramePr/>
          <p:nvPr/>
        </p:nvGraphicFramePr>
        <p:xfrm>
          <a:off x="2050920" y="981000"/>
          <a:ext cx="1363680" cy="287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981000"/>
                    <a:ext cx="13636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AutoShape 20"/>
          <p:cNvSpPr/>
          <p:nvPr/>
        </p:nvSpPr>
        <p:spPr>
          <a:xfrm>
            <a:off x="611280" y="1989000"/>
            <a:ext cx="8650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539640" y="4581360"/>
            <a:ext cx="863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E78-28A6-4E24-8F36-06AC9F3ABB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99"/>
                </a:solidFill>
                <a:latin typeface="Tahoma"/>
              </a:rPr>
              <a:t>Umetanje red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ova i kol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a bi se umetnuo red ili kolona potrebno j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esni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klik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om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kliknuti na red iznad koga želimo da umetnemo novi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Klik na komandu </a:t>
            </a:r>
            <a:r>
              <a:rPr b="0" lang="hr-HR" sz="2200" spc="-1" strike="noStrike">
                <a:solidFill>
                  <a:srgbClr val="ff0000"/>
                </a:solidFill>
                <a:latin typeface="Tahoma"/>
              </a:rPr>
              <a:t>Insert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na padaju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ć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em menij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postojeć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kolone / 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re</a:t>
            </a:r>
            <a:r>
              <a:rPr b="0" lang="en-US" sz="2200" spc="-1" strike="noStrike">
                <a:solidFill>
                  <a:srgbClr val="ffff99"/>
                </a:solidFill>
                <a:latin typeface="Tahoma"/>
              </a:rPr>
              <a:t>dovi</a:t>
            </a:r>
            <a:r>
              <a:rPr b="0" lang="sr-Latn-CS" sz="2200" spc="-1" strike="noStrike">
                <a:solidFill>
                  <a:srgbClr val="ffff99"/>
                </a:solidFill>
                <a:latin typeface="Tahoma"/>
              </a:rPr>
              <a:t> se</a:t>
            </a:r>
            <a:r>
              <a:rPr b="0" lang="hr-HR" sz="2200" spc="-1" strike="noStrike">
                <a:solidFill>
                  <a:srgbClr val="ffff99"/>
                </a:solidFill>
                <a:latin typeface="Tahoma"/>
              </a:rPr>
              <a:t> razmiču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971640" y="3500280"/>
            <a:ext cx="4392360" cy="996840"/>
            <a:chOff x="971640" y="3500280"/>
            <a:chExt cx="4392360" cy="996840"/>
          </a:xfrm>
        </p:grpSpPr>
        <p:pic>
          <p:nvPicPr>
            <p:cNvPr id="235" name="Picture 5" descr="ey42"/>
            <p:cNvPicPr/>
            <p:nvPr/>
          </p:nvPicPr>
          <p:blipFill>
            <a:blip r:embed="rId1"/>
            <a:stretch/>
          </p:blipFill>
          <p:spPr>
            <a:xfrm>
              <a:off x="1547640" y="3500280"/>
              <a:ext cx="3745080" cy="9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6"/>
            <p:cNvSpPr/>
            <p:nvPr/>
          </p:nvSpPr>
          <p:spPr>
            <a:xfrm>
              <a:off x="1547640" y="4003560"/>
              <a:ext cx="3816360" cy="21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"/>
            <p:cNvSpPr/>
            <p:nvPr/>
          </p:nvSpPr>
          <p:spPr>
            <a:xfrm>
              <a:off x="971640" y="414792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Text Box 8"/>
          <p:cNvSpPr/>
          <p:nvPr/>
        </p:nvSpPr>
        <p:spPr>
          <a:xfrm>
            <a:off x="468360" y="5013360"/>
            <a:ext cx="9144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   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POSTUPAK JE ISTI ZA UMETANJE KO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Arial"/>
              </a:rPr>
              <a:t>  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OBELEŽAVAMO KOLONU ISPRED KOJE ŽELIMO DA UMETNEMO NOV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5435640" y="3500280"/>
            <a:ext cx="31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Umetnut je 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novi 13. red.</a:t>
            </a:r>
            <a:r>
              <a:rPr b="0" lang="hr-HR" sz="1800" spc="-1" strike="noStrike">
                <a:solidFill>
                  <a:srgbClr val="ffff99"/>
                </a:solidFill>
                <a:latin typeface="Arial"/>
              </a:rPr>
              <a:t> Dosadašnji 13. postao je 1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60F-E650-4188-8A36-5D9809F6FC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Postupak je sličan kao za umet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Označimo red ili kolon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Desni klikom aktiviramo pomoćni me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Levim klikom biramo komandu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ffff99"/>
                </a:solidFill>
                <a:latin typeface="Tahoma"/>
              </a:rPr>
              <a:t>De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Tahoma"/>
              </a:rPr>
              <a:t>Brisanje red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ova i kolo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780000" y="4149720"/>
            <a:ext cx="3313080" cy="1368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Vežba3:</a:t>
            </a:r>
            <a:br>
              <a:rPr sz="40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Klikni na ikonicu </a:t>
            </a: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Otvori radni list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Red i 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Object 7"/>
          <p:cNvGraphicFramePr/>
          <p:nvPr/>
        </p:nvGraphicFramePr>
        <p:xfrm>
          <a:off x="2195640" y="4292640"/>
          <a:ext cx="1368360" cy="10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29264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911-6FEB-45F7-930F-224E9E2AF0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3300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916360" y="2421000"/>
            <a:ext cx="496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Arial"/>
              </a:rPr>
              <a:t>Putokaz 3:</a:t>
            </a:r>
            <a:br>
              <a:rPr sz="4000"/>
            </a:br>
            <a:r>
              <a:rPr b="0" lang="sr-Latn-CS" sz="3200" spc="-1" strike="noStrike">
                <a:solidFill>
                  <a:srgbClr val="cc3300"/>
                </a:solidFill>
                <a:latin typeface="Arial"/>
              </a:rPr>
              <a:t>Formatiranje ćel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C46-7018-45DC-B7CE-2DA0C925E1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360" y="-360"/>
            <a:ext cx="52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Formatiranje će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0" y="0"/>
          <a:ext cx="339408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39408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7"/>
          <p:cNvGraphicFramePr/>
          <p:nvPr/>
        </p:nvGraphicFramePr>
        <p:xfrm>
          <a:off x="3348000" y="1413000"/>
          <a:ext cx="3529080" cy="33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413000"/>
                    <a:ext cx="352908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9"/>
          <p:cNvGraphicFramePr/>
          <p:nvPr/>
        </p:nvGraphicFramePr>
        <p:xfrm>
          <a:off x="5651640" y="3537000"/>
          <a:ext cx="349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537000"/>
                    <a:ext cx="349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11"/>
          <p:cNvSpPr/>
          <p:nvPr/>
        </p:nvSpPr>
        <p:spPr>
          <a:xfrm>
            <a:off x="5436720" y="90792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Forma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0" y="26028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3"/>
          <p:cNvSpPr/>
          <p:nvPr/>
        </p:nvSpPr>
        <p:spPr>
          <a:xfrm>
            <a:off x="3924360" y="170028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6659640" y="3860640"/>
            <a:ext cx="72072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FD7-0C27-4C48-83F7-63FD56CB0D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Formatiranje ćelije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br>
              <a:rPr sz="2800"/>
            </a:b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Format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69800" y="1995480"/>
          <a:ext cx="403884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995480"/>
                    <a:ext cx="403884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7"/>
          <p:cNvGraphicFramePr/>
          <p:nvPr/>
        </p:nvGraphicFramePr>
        <p:xfrm>
          <a:off x="4646520" y="2259000"/>
          <a:ext cx="4040280" cy="34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6520" y="2259000"/>
                    <a:ext cx="4040280" cy="34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AutoShape 10"/>
          <p:cNvSpPr/>
          <p:nvPr/>
        </p:nvSpPr>
        <p:spPr>
          <a:xfrm>
            <a:off x="2195640" y="2060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6877080" y="2276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49E-DB2E-4592-BC7E-48C9D4E854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Tipovi podataka</a:t>
            </a:r>
            <a:br>
              <a:rPr sz="4000"/>
            </a:b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Format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Cells / Number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26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Text - tek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General, Number - broj (ceo,decimal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Currency - Valu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3300"/>
                </a:solidFill>
                <a:latin typeface="Tahoma"/>
              </a:rPr>
              <a:t>Date – dat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56000" y="587700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Object 6"/>
          <p:cNvGraphicFramePr/>
          <p:nvPr/>
        </p:nvGraphicFramePr>
        <p:xfrm>
          <a:off x="4716360" y="1484280"/>
          <a:ext cx="4038840" cy="39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484280"/>
                    <a:ext cx="4038840" cy="39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AutoShape 8"/>
          <p:cNvSpPr/>
          <p:nvPr/>
        </p:nvSpPr>
        <p:spPr>
          <a:xfrm>
            <a:off x="4716360" y="1844640"/>
            <a:ext cx="755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A38-1843-457E-BB26-E83CA67C6F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36"/>
          <p:cNvGraphicFramePr/>
          <p:nvPr/>
        </p:nvGraphicFramePr>
        <p:xfrm>
          <a:off x="1835280" y="3741840"/>
          <a:ext cx="3313080" cy="31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741840"/>
                    <a:ext cx="33130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13040" y="291960"/>
            <a:ext cx="67737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ahoma"/>
              </a:rPr>
              <a:t>General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je osnovni način oblikovanja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čkih podataka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 po kome se prikaz u ćeliji prilagođava unesenom numeričkom podatku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49520" y="4395600"/>
            <a:ext cx="427644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3300"/>
                </a:solidFill>
                <a:latin typeface="Tahoma"/>
              </a:rPr>
              <a:t>Currency</a:t>
            </a:r>
            <a:r>
              <a:rPr b="0" lang="hr-HR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cc3300"/>
                </a:solidFill>
                <a:latin typeface="Tahoma"/>
              </a:rPr>
              <a:t>oblikovanje numeričkih podataka omogućava uz sve </a:t>
            </a:r>
            <a:r>
              <a:rPr b="1" lang="hr-HR" sz="2200" spc="-1" strike="noStrike">
                <a:solidFill>
                  <a:srgbClr val="cc3300"/>
                </a:solidFill>
                <a:latin typeface="Tahoma"/>
              </a:rPr>
              <a:t>Number</a:t>
            </a:r>
            <a:r>
              <a:rPr b="0" lang="hr-HR" sz="2200" spc="-1" strike="noStrike">
                <a:solidFill>
                  <a:srgbClr val="cc3300"/>
                </a:solidFill>
                <a:latin typeface="Tahoma"/>
              </a:rPr>
              <a:t> mogućnosti i zadavanje prikaza simbola novčane jedinice odabrane zemlje (valute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5" name="Object 33"/>
          <p:cNvGraphicFramePr/>
          <p:nvPr/>
        </p:nvGraphicFramePr>
        <p:xfrm>
          <a:off x="179280" y="4653000"/>
          <a:ext cx="161928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653000"/>
                    <a:ext cx="1619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3" descr="er40"/>
          <p:cNvPicPr/>
          <p:nvPr/>
        </p:nvPicPr>
        <p:blipFill>
          <a:blip r:embed="rId5"/>
          <a:stretch/>
        </p:blipFill>
        <p:spPr>
          <a:xfrm>
            <a:off x="395280" y="333360"/>
            <a:ext cx="1368360" cy="1355760"/>
          </a:xfrm>
          <a:prstGeom prst="rect">
            <a:avLst/>
          </a:prstGeom>
          <a:ln w="15840">
            <a:solidFill>
              <a:srgbClr val="ff3300"/>
            </a:solidFill>
            <a:miter/>
          </a:ln>
        </p:spPr>
      </p:pic>
      <p:pic>
        <p:nvPicPr>
          <p:cNvPr id="278" name="Picture 4" descr="ey5"/>
          <p:cNvPicPr/>
          <p:nvPr/>
        </p:nvPicPr>
        <p:blipFill>
          <a:blip r:embed="rId6"/>
          <a:stretch/>
        </p:blipFill>
        <p:spPr>
          <a:xfrm>
            <a:off x="395280" y="1989000"/>
            <a:ext cx="1414440" cy="1582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5003640" y="1484280"/>
            <a:ext cx="39610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3300"/>
                </a:solidFill>
                <a:latin typeface="Arial"/>
              </a:rPr>
              <a:t>Number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numeričkih podataka omogućava zadavanje željenog broja decimalnih mesta, postavljanje znaka za razdvajanje cifara (separatora) zbog bolje preglednosti, kao i prikaz negativnih brojeva u drugoj boj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er41"/>
          <p:cNvPicPr/>
          <p:nvPr/>
        </p:nvPicPr>
        <p:blipFill>
          <a:blip r:embed="rId7"/>
          <a:stretch/>
        </p:blipFill>
        <p:spPr>
          <a:xfrm>
            <a:off x="2268360" y="1484280"/>
            <a:ext cx="2586240" cy="2087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7"/>
          <p:cNvSpPr/>
          <p:nvPr/>
        </p:nvSpPr>
        <p:spPr>
          <a:xfrm>
            <a:off x="2411280" y="2637000"/>
            <a:ext cx="2457720" cy="939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8"/>
          <p:cNvSpPr/>
          <p:nvPr/>
        </p:nvSpPr>
        <p:spPr>
          <a:xfrm>
            <a:off x="1908000" y="1700280"/>
            <a:ext cx="3873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881360" y="3357720"/>
            <a:ext cx="3870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908000" y="2276640"/>
            <a:ext cx="38736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2987640" y="4724280"/>
            <a:ext cx="1655640" cy="115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2556000" y="4581360"/>
            <a:ext cx="57600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79C-77F9-4DBE-863D-9896306B62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Putokaz 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1.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ADNA POVR</a:t>
            </a:r>
            <a:r>
              <a:rPr b="0" lang="sr-Latn-CS" sz="4400" spc="-1" strike="noStrike">
                <a:solidFill>
                  <a:srgbClr val="ffff99"/>
                </a:solidFill>
                <a:latin typeface="Tahoma"/>
              </a:rPr>
              <a:t>Š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5A1-EDCD-49F7-9685-208BE8C880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779640" y="1773000"/>
            <a:ext cx="50749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ccounting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cc3300"/>
                </a:solidFill>
                <a:latin typeface="Tahoma"/>
              </a:rPr>
              <a:t>oblikovanje omogućava poravnanje numeričkih podataka prema decimalnom zarez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3" descr="er46"/>
          <p:cNvPicPr/>
          <p:nvPr/>
        </p:nvPicPr>
        <p:blipFill>
          <a:blip r:embed="rId1"/>
          <a:stretch/>
        </p:blipFill>
        <p:spPr>
          <a:xfrm>
            <a:off x="324000" y="1557360"/>
            <a:ext cx="1511280" cy="149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89" name="Line 4"/>
          <p:cNvSpPr/>
          <p:nvPr/>
        </p:nvSpPr>
        <p:spPr>
          <a:xfrm>
            <a:off x="1476360" y="162864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5" descr="er45"/>
          <p:cNvPicPr/>
          <p:nvPr/>
        </p:nvPicPr>
        <p:blipFill>
          <a:blip r:embed="rId2"/>
          <a:stretch/>
        </p:blipFill>
        <p:spPr>
          <a:xfrm>
            <a:off x="1908000" y="1773360"/>
            <a:ext cx="2087640" cy="993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291" name="Picture 6" descr="ey6"/>
          <p:cNvPicPr/>
          <p:nvPr/>
        </p:nvPicPr>
        <p:blipFill>
          <a:blip r:embed="rId3"/>
          <a:stretch/>
        </p:blipFill>
        <p:spPr>
          <a:xfrm>
            <a:off x="395280" y="0"/>
            <a:ext cx="1297080" cy="1285920"/>
          </a:xfrm>
          <a:prstGeom prst="rect">
            <a:avLst/>
          </a:prstGeom>
          <a:ln w="15840">
            <a:solidFill>
              <a:srgbClr val="ff3300"/>
            </a:solidFill>
            <a:miter/>
          </a:ln>
        </p:spPr>
      </p:pic>
      <p:pic>
        <p:nvPicPr>
          <p:cNvPr id="292" name="Picture 7" descr="er47"/>
          <p:cNvPicPr/>
          <p:nvPr/>
        </p:nvPicPr>
        <p:blipFill>
          <a:blip r:embed="rId4"/>
          <a:stretch/>
        </p:blipFill>
        <p:spPr>
          <a:xfrm>
            <a:off x="324000" y="3141720"/>
            <a:ext cx="1439640" cy="1427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93" name="Rectangle 8"/>
          <p:cNvSpPr/>
          <p:nvPr/>
        </p:nvSpPr>
        <p:spPr>
          <a:xfrm>
            <a:off x="1476360" y="3213000"/>
            <a:ext cx="669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Text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omogućava da se numerički sadržaj unesen u ćeliju smatra tekstom. Sadržaj ćelije se poravnava prema levoj ivici ćeli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0" descr="er49"/>
          <p:cNvPicPr/>
          <p:nvPr/>
        </p:nvPicPr>
        <p:blipFill>
          <a:blip r:embed="rId5"/>
          <a:stretch/>
        </p:blipFill>
        <p:spPr>
          <a:xfrm>
            <a:off x="324000" y="4653000"/>
            <a:ext cx="1377720" cy="149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95" name="Rectangle 11"/>
          <p:cNvSpPr/>
          <p:nvPr/>
        </p:nvSpPr>
        <p:spPr>
          <a:xfrm>
            <a:off x="1519200" y="4581360"/>
            <a:ext cx="62928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7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3300"/>
                </a:solidFill>
                <a:latin typeface="Arial"/>
              </a:rPr>
              <a:t>Percentage</a:t>
            </a:r>
            <a:r>
              <a:rPr b="0" lang="hr-H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oblikovanje omogućava prikaz numeričkog sadržaja u obliku postotka.(Numerički sadržaj ćelije se množi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i</a:t>
            </a:r>
            <a:r>
              <a:rPr b="0" lang="hr-HR" sz="1800" spc="-1" strike="noStrike">
                <a:solidFill>
                  <a:srgbClr val="cc3300"/>
                </a:solidFill>
                <a:latin typeface="Arial"/>
              </a:rPr>
              <a:t> sa 100 pa mu se dodaje znak postotka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635280" y="5745240"/>
            <a:ext cx="53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Vežb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3300"/>
                </a:solidFill>
                <a:latin typeface="Arial"/>
              </a:rPr>
              <a:t>Klikni na ikonicu i otvori radni list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Tipov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ff3300"/>
                </a:solidFill>
                <a:latin typeface="Arial"/>
              </a:rPr>
              <a:t>odat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 rot="21321000">
            <a:off x="2705040" y="189000"/>
            <a:ext cx="50072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3300"/>
                </a:solidFill>
                <a:latin typeface="Arial"/>
              </a:rPr>
              <a:t>Formate uklanjamo komand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Edit / Clear /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Object 16"/>
          <p:cNvGraphicFramePr/>
          <p:nvPr/>
        </p:nvGraphicFramePr>
        <p:xfrm>
          <a:off x="2195640" y="5589720"/>
          <a:ext cx="1368360" cy="1068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99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5640" y="558972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F3A-9A2C-4B4C-A90B-10876465036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3300"/>
                </a:solidFill>
                <a:latin typeface="Tahoma"/>
              </a:rPr>
              <a:t>Poravnanje sadržaja u ćeliji</a:t>
            </a:r>
            <a:br>
              <a:rPr sz="24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Format /  Cell / Aligment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                     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Horizontal: Left,Center, Right</a:t>
            </a:r>
            <a:br>
              <a:rPr sz="2000"/>
            </a:b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sr-Latn-CS" sz="2000" spc="-1" strike="noStrike">
                <a:solidFill>
                  <a:srgbClr val="cc3300"/>
                </a:solidFill>
                <a:latin typeface="Tahoma"/>
              </a:rPr>
              <a:t> Vertical: Top, Center, Right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333600" y="1987560"/>
          <a:ext cx="5327640" cy="4029120"/>
        </p:xfrm>
        <a:graphic>
          <a:graphicData uri="http://schemas.openxmlformats.org/drawingml/2006/table">
            <a:tbl>
              <a:tblPr/>
              <a:tblGrid>
                <a:gridCol w="1776600"/>
                <a:gridCol w="1755000"/>
                <a:gridCol w="1796040"/>
              </a:tblGrid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To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4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Lef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Center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: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Righ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- V: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Arial"/>
                        </a:rPr>
                        <a:t>Botto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Object 66"/>
          <p:cNvGraphicFramePr/>
          <p:nvPr/>
        </p:nvGraphicFramePr>
        <p:xfrm>
          <a:off x="250920" y="765000"/>
          <a:ext cx="3203640" cy="30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3203640" cy="30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72"/>
          <p:cNvSpPr/>
          <p:nvPr/>
        </p:nvSpPr>
        <p:spPr>
          <a:xfrm>
            <a:off x="755640" y="1052640"/>
            <a:ext cx="576360" cy="21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73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1343160" cy="1986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4" descr=""/>
          <p:cNvPicPr/>
          <p:nvPr/>
        </p:nvPicPr>
        <p:blipFill>
          <a:blip r:embed="rId4"/>
          <a:stretch/>
        </p:blipFill>
        <p:spPr>
          <a:xfrm>
            <a:off x="1692360" y="4797360"/>
            <a:ext cx="1138320" cy="7574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75"/>
          <p:cNvSpPr/>
          <p:nvPr/>
        </p:nvSpPr>
        <p:spPr>
          <a:xfrm>
            <a:off x="468360" y="1413000"/>
            <a:ext cx="129528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971-271E-4769-BA78-C4E3471AA8C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3300"/>
                </a:solidFill>
                <a:latin typeface="Tahoma"/>
              </a:rPr>
              <a:t>Poravnanje sadržaja unutar ćel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052640"/>
          <a:ext cx="8147160" cy="5000400"/>
        </p:xfrm>
        <a:graphic>
          <a:graphicData uri="http://schemas.openxmlformats.org/drawingml/2006/table">
            <a:tbl>
              <a:tblPr/>
              <a:tblGrid>
                <a:gridCol w="8147160"/>
              </a:tblGrid>
              <a:tr h="16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</a:tr>
              <a:tr h="16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Object 121"/>
          <p:cNvGraphicFramePr/>
          <p:nvPr/>
        </p:nvGraphicFramePr>
        <p:xfrm>
          <a:off x="3419640" y="1197000"/>
          <a:ext cx="39607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1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197000"/>
                    <a:ext cx="3960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6" descr="er35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987640" y="4579920"/>
            <a:ext cx="5400720" cy="1155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er34"/>
          <p:cNvPicPr/>
          <p:nvPr/>
        </p:nvPicPr>
        <p:blipFill>
          <a:blip r:embed="rId4"/>
          <a:stretch/>
        </p:blipFill>
        <p:spPr>
          <a:xfrm>
            <a:off x="684360" y="4437000"/>
            <a:ext cx="2016000" cy="1459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er31"/>
          <p:cNvPicPr/>
          <p:nvPr/>
        </p:nvPicPr>
        <p:blipFill>
          <a:blip r:embed="rId5"/>
          <a:stretch/>
        </p:blipFill>
        <p:spPr>
          <a:xfrm>
            <a:off x="611280" y="1123920"/>
            <a:ext cx="1873080" cy="1392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5" descr="er32"/>
          <p:cNvPicPr/>
          <p:nvPr/>
        </p:nvPicPr>
        <p:blipFill>
          <a:blip r:embed="rId6"/>
          <a:stretch/>
        </p:blipFill>
        <p:spPr>
          <a:xfrm>
            <a:off x="611280" y="2852640"/>
            <a:ext cx="1942920" cy="13510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6"/>
          <p:cNvSpPr/>
          <p:nvPr/>
        </p:nvSpPr>
        <p:spPr>
          <a:xfrm>
            <a:off x="900000" y="1555920"/>
            <a:ext cx="12956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57"/>
          <p:cNvSpPr/>
          <p:nvPr/>
        </p:nvSpPr>
        <p:spPr>
          <a:xfrm>
            <a:off x="900000" y="5300640"/>
            <a:ext cx="1511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58"/>
          <p:cNvSpPr/>
          <p:nvPr/>
        </p:nvSpPr>
        <p:spPr>
          <a:xfrm>
            <a:off x="900000" y="3500280"/>
            <a:ext cx="14414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Object 123"/>
          <p:cNvGraphicFramePr/>
          <p:nvPr/>
        </p:nvGraphicFramePr>
        <p:xfrm>
          <a:off x="2625840" y="3043080"/>
          <a:ext cx="5838840" cy="120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5840" y="3043080"/>
                    <a:ext cx="58388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D23-97D9-4346-AFC5-90B44071A69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99"/>
                </a:solidFill>
                <a:latin typeface="Tahoma"/>
              </a:rPr>
              <a:t>Okviri i senčenje ćel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hr-HR" sz="2100" spc="-1" strike="noStrike">
                <a:solidFill>
                  <a:srgbClr val="ff0000"/>
                </a:solidFill>
                <a:latin typeface="Tahoma"/>
              </a:rPr>
              <a:t>Okviri i senčenje se dodaju na sledeći način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Označimo željeni blok ćel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Kliknemo na meni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 Format / Cells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/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Border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(okvir) ili </a:t>
            </a:r>
            <a:r>
              <a:rPr b="1" lang="hr-HR" sz="2000" spc="-1" strike="noStrike">
                <a:solidFill>
                  <a:srgbClr val="ff0000"/>
                </a:solidFill>
                <a:latin typeface="Tahoma"/>
              </a:rPr>
              <a:t>Patterns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 (senčenje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odabrati željeni okvir ili senčenje</a:t>
            </a:r>
            <a:r>
              <a:rPr b="0" lang="hr-HR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4" descr="ez2"/>
          <p:cNvPicPr/>
          <p:nvPr/>
        </p:nvPicPr>
        <p:blipFill>
          <a:blip r:embed="rId1"/>
          <a:stretch/>
        </p:blipFill>
        <p:spPr>
          <a:xfrm>
            <a:off x="216000" y="3141720"/>
            <a:ext cx="3170160" cy="27050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24" name="Text Box 5"/>
          <p:cNvSpPr/>
          <p:nvPr/>
        </p:nvSpPr>
        <p:spPr>
          <a:xfrm>
            <a:off x="3419640" y="4076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 izgleda li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3564000" y="522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boje lin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2374920" y="3862440"/>
            <a:ext cx="960480" cy="1033560"/>
          </a:xfrm>
          <a:custGeom>
            <a:avLst/>
            <a:gdLst>
              <a:gd name="textAreaLeft" fmla="*/ 46800 w 960480"/>
              <a:gd name="textAreaRight" fmla="*/ 913680 w 960480"/>
              <a:gd name="textAreaTop" fmla="*/ 46800 h 1033560"/>
              <a:gd name="textAreaBottom" fmla="*/ 986760 h 1033560"/>
            </a:gdLst>
            <a:ahLst/>
            <a:rect l="textAreaLeft" t="textAreaTop" r="textAreaRight" b="textAreaBottom"/>
            <a:pathLst>
              <a:path w="21600" h="23243">
                <a:moveTo>
                  <a:pt x="3600" y="0"/>
                </a:moveTo>
                <a:arcTo wR="3600" hR="3600" stAng="16200000" swAng="-5400000"/>
                <a:lnTo>
                  <a:pt x="0" y="19643"/>
                </a:lnTo>
                <a:arcTo wR="3600" hR="3600" stAng="10800000" swAng="-5400000"/>
                <a:lnTo>
                  <a:pt x="18000" y="232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2376360" y="5040360"/>
            <a:ext cx="1009800" cy="784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3311640" y="4365720"/>
            <a:ext cx="24120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H="1">
            <a:off x="3382920" y="5446800"/>
            <a:ext cx="28728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3348000" y="3284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dela okv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647640" y="4005360"/>
            <a:ext cx="1609920" cy="13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 flipH="1">
            <a:off x="1944360" y="3646440"/>
            <a:ext cx="194292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4"/>
          <p:cNvSpPr/>
          <p:nvPr/>
        </p:nvSpPr>
        <p:spPr>
          <a:xfrm>
            <a:off x="1655640" y="3357720"/>
            <a:ext cx="50508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5" descr="ez1"/>
          <p:cNvPicPr/>
          <p:nvPr/>
        </p:nvPicPr>
        <p:blipFill>
          <a:blip r:embed="rId2"/>
          <a:stretch/>
        </p:blipFill>
        <p:spPr>
          <a:xfrm>
            <a:off x="5940360" y="2708280"/>
            <a:ext cx="2808360" cy="26352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335" name="Text Box 16"/>
          <p:cNvSpPr/>
          <p:nvPr/>
        </p:nvSpPr>
        <p:spPr>
          <a:xfrm>
            <a:off x="7956720" y="357336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Arial"/>
              </a:rPr>
              <a:t>izbor 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宋体"/>
              </a:rPr>
              <a:t>boj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Arial"/>
              </a:rPr>
              <a:t>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c600"/>
                </a:solidFill>
                <a:latin typeface="Arial"/>
                <a:ea typeface="宋体"/>
              </a:rPr>
              <a:t>s</a:t>
            </a:r>
            <a:r>
              <a:rPr b="0" lang="hr-HR" sz="1600" spc="-1" strike="noStrike">
                <a:solidFill>
                  <a:srgbClr val="00c600"/>
                </a:solidFill>
                <a:latin typeface="Arial"/>
              </a:rPr>
              <a:t>enčen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7"/>
          <p:cNvSpPr/>
          <p:nvPr/>
        </p:nvSpPr>
        <p:spPr>
          <a:xfrm>
            <a:off x="6012000" y="5516640"/>
            <a:ext cx="208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Izbor 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uzork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a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 sen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č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</a:rPr>
              <a:t>e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nja </a:t>
            </a:r>
            <a:br>
              <a:rPr sz="1800"/>
            </a:b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i boj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e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Arial"/>
              </a:rPr>
              <a:t>tog </a:t>
            </a:r>
            <a:r>
              <a:rPr b="0" lang="hr-HR" sz="1800" spc="-1" strike="noStrike">
                <a:solidFill>
                  <a:srgbClr val="00c600"/>
                </a:solidFill>
                <a:latin typeface="Arial"/>
                <a:ea typeface="宋体"/>
              </a:rPr>
              <a:t>uzor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 flipH="1" flipV="1">
            <a:off x="6157800" y="4746600"/>
            <a:ext cx="790560" cy="843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 flipH="1">
            <a:off x="6516360" y="386064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 flipV="1">
            <a:off x="6948360" y="4026960"/>
            <a:ext cx="144720" cy="148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7740720" y="2924280"/>
            <a:ext cx="50472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7BA3-6E3E-4DE4-A09F-288DE99DE3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367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66"/>
                </a:solidFill>
                <a:latin typeface="Tahoma"/>
              </a:rPr>
              <a:t>Exc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95280" y="263700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66"/>
                </a:solidFill>
                <a:latin typeface="Arial"/>
              </a:rPr>
              <a:t>Putokaz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sr-Latn-C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EDNOSTAVNIJE FUNK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AB2-6B71-487E-ABD7-CC0A2EC6CE0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4032360" cy="35942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111600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Arial"/>
              </a:rPr>
              <a:t>Putokaz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sr-Latn-C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EDNOSTAVNIJE FUNK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187280" y="162864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unkcije se mogu pozvati komandom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sert / Fun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zatim se koriste čarobnj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li iz linije sa altkama Standard, oznak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li u liniji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ula ba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upisuje se sintaksa 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2627280" y="3789360"/>
            <a:ext cx="115272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724360" y="3357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Lista najčešće korišćenih funk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5796000" y="494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Lista svih funkc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10"/>
          <p:cNvSpPr/>
          <p:nvPr/>
        </p:nvSpPr>
        <p:spPr>
          <a:xfrm flipH="1" flipV="1">
            <a:off x="2771640" y="4292280"/>
            <a:ext cx="2952720" cy="86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>
            <a:off x="1476360" y="4292640"/>
            <a:ext cx="1152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179-5BD3-4F8F-88AD-F63869474C1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291960"/>
            <a:ext cx="8147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EDNOSTAVNIJE FUNK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Pisanje formule ili funkcije počinje znakom ”=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Selekcija red ili kolona nad kojim se primenjuje odgovarajuća funkcija može da se izvrši pre ili posle izbora funkcij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ajčešće korištene funkcij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UM             -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abira blok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VERAGE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ačuna srednju vrednost  za blok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OUNT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brojava 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ć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lije  u blok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MAX     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jmanja vrednost u bloku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80000"/>
              </a:lnSpc>
              <a:spcBef>
                <a:spcPts val="134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MIN             –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jveća vrednost u bloku ćel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d57b5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36640" y="907920"/>
            <a:ext cx="7569000" cy="866160"/>
          </a:xfrm>
          <a:prstGeom prst="rect">
            <a:avLst/>
          </a:prstGeom>
          <a:noFill/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SINTAKSA:   FUNKCIJA (početna adresa:krajnja adres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bloka </a:t>
            </a: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ćelij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p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=sum(A1:C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84360" y="1916280"/>
          <a:ext cx="7880040" cy="1064880"/>
        </p:xfrm>
        <a:graphic>
          <a:graphicData uri="http://schemas.openxmlformats.org/drawingml/2006/table">
            <a:tbl>
              <a:tblPr/>
              <a:tblGrid>
                <a:gridCol w="463320"/>
                <a:gridCol w="1227240"/>
                <a:gridCol w="847800"/>
                <a:gridCol w="846000"/>
                <a:gridCol w="847800"/>
                <a:gridCol w="1109520"/>
                <a:gridCol w="847800"/>
                <a:gridCol w="843120"/>
                <a:gridCol w="8474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OU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44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12F7-E907-4DE2-87EB-35014698D6E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ostupak umetanja funkcije</a:t>
            </a:r>
            <a:br>
              <a:rPr sz="2800"/>
            </a:b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Insert /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06520" y="2127240"/>
          <a:ext cx="30970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2127240"/>
                    <a:ext cx="30970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6"/>
          <p:cNvGraphicFramePr/>
          <p:nvPr/>
        </p:nvGraphicFramePr>
        <p:xfrm>
          <a:off x="560520" y="4194000"/>
          <a:ext cx="22827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520" y="4194000"/>
                    <a:ext cx="22827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8"/>
          <p:cNvSpPr/>
          <p:nvPr/>
        </p:nvSpPr>
        <p:spPr>
          <a:xfrm>
            <a:off x="0" y="1341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ozicioniramo se u 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iju u kojoj 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želimo da bude rezul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9"/>
          <p:cNvSpPr/>
          <p:nvPr/>
        </p:nvSpPr>
        <p:spPr>
          <a:xfrm>
            <a:off x="2700360" y="306864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10"/>
          <p:cNvSpPr/>
          <p:nvPr/>
        </p:nvSpPr>
        <p:spPr>
          <a:xfrm>
            <a:off x="1496880" y="4483080"/>
            <a:ext cx="503280" cy="217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1"/>
          <p:cNvSpPr/>
          <p:nvPr/>
        </p:nvSpPr>
        <p:spPr>
          <a:xfrm>
            <a:off x="1568520" y="5418000"/>
            <a:ext cx="792000" cy="216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12" descr=""/>
          <p:cNvPicPr/>
          <p:nvPr/>
        </p:nvPicPr>
        <p:blipFill>
          <a:blip r:embed="rId5"/>
          <a:stretch/>
        </p:blipFill>
        <p:spPr>
          <a:xfrm>
            <a:off x="4716360" y="2060640"/>
            <a:ext cx="3311640" cy="295092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3"/>
          <p:cNvSpPr/>
          <p:nvPr/>
        </p:nvSpPr>
        <p:spPr>
          <a:xfrm>
            <a:off x="5724360" y="2852640"/>
            <a:ext cx="946440" cy="20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4"/>
          <p:cNvSpPr/>
          <p:nvPr/>
        </p:nvSpPr>
        <p:spPr>
          <a:xfrm>
            <a:off x="4716360" y="3213000"/>
            <a:ext cx="1008000" cy="936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179280" y="3716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2. Iz menija Insert biramo komandu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7"/>
          <p:cNvSpPr/>
          <p:nvPr/>
        </p:nvSpPr>
        <p:spPr>
          <a:xfrm>
            <a:off x="3635280" y="5084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3. Biramo kategoriju funkcija i iz kategorije željenu funkci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EF0-5CB3-4EA0-8D90-C6916651667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5"/>
          <p:cNvGraphicFramePr/>
          <p:nvPr/>
        </p:nvGraphicFramePr>
        <p:xfrm>
          <a:off x="539640" y="1197000"/>
          <a:ext cx="403884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03884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8"/>
          <p:cNvSpPr/>
          <p:nvPr/>
        </p:nvSpPr>
        <p:spPr>
          <a:xfrm>
            <a:off x="1476360" y="162864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Object 9"/>
          <p:cNvGraphicFramePr/>
          <p:nvPr/>
        </p:nvGraphicFramePr>
        <p:xfrm>
          <a:off x="684360" y="3957480"/>
          <a:ext cx="403848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957480"/>
                    <a:ext cx="40384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AutoShape 12"/>
          <p:cNvSpPr/>
          <p:nvPr/>
        </p:nvSpPr>
        <p:spPr>
          <a:xfrm>
            <a:off x="3059280" y="321300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3"/>
          <p:cNvSpPr/>
          <p:nvPr/>
        </p:nvSpPr>
        <p:spPr>
          <a:xfrm>
            <a:off x="3780000" y="5516640"/>
            <a:ext cx="79200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4716360" y="1413000"/>
            <a:ext cx="42339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4. Biramo oblast-rang na koji želimo da primenimo funkci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Navodimo početnu i krajnju adresu oblasti i između stavljamo znak </a:t>
            </a:r>
            <a:r>
              <a:rPr b="1" lang="sr-Latn-C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tvrdimo izbor na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5003640" y="407664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Rezultat se ispisuje na lokaciji izabranoj na početku postupka umetanja 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 flipH="1">
            <a:off x="2556000" y="5013360"/>
            <a:ext cx="151128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0B2-C442-4514-B543-50FD7B6C860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2560" y="1060560"/>
            <a:ext cx="433224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COUNTIF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- prebroj ćelije kod kojih je ispunjen za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i uslov npr.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=5</a:t>
            </a:r>
            <a:r>
              <a:rPr b="0" lang="sr-Latn-CS" sz="3200" spc="-1" strike="noStrike">
                <a:solidFill>
                  <a:srgbClr val="53377d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611280" y="3370320"/>
          <a:ext cx="504036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70320"/>
                    <a:ext cx="50403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32000" y="1557360"/>
          <a:ext cx="2448000" cy="1469880"/>
        </p:xfrm>
        <a:graphic>
          <a:graphicData uri="http://schemas.openxmlformats.org/drawingml/2006/table">
            <a:tbl>
              <a:tblPr/>
              <a:tblGrid>
                <a:gridCol w="336600"/>
                <a:gridCol w="1698480"/>
                <a:gridCol w="412920"/>
              </a:tblGrid>
              <a:tr h="363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DutchBI"/>
                          <a:ea typeface="Arial"/>
                        </a:rPr>
                        <a:t>ВЕЖБА 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пети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четвор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трој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YSwissB"/>
                          <a:ea typeface="Arial"/>
                        </a:rPr>
                        <a:t>Број двоја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 Cirilica"/>
                          <a:ea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83" name="AutoShape 6"/>
          <p:cNvSpPr/>
          <p:nvPr/>
        </p:nvSpPr>
        <p:spPr>
          <a:xfrm>
            <a:off x="1619280" y="4003560"/>
            <a:ext cx="792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96"/>
          <p:cNvSpPr/>
          <p:nvPr/>
        </p:nvSpPr>
        <p:spPr>
          <a:xfrm flipV="1">
            <a:off x="2050920" y="2204640"/>
            <a:ext cx="1511280" cy="180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97"/>
          <p:cNvSpPr/>
          <p:nvPr/>
        </p:nvSpPr>
        <p:spPr>
          <a:xfrm>
            <a:off x="5292720" y="62064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SUMIF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beri sadr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žaj ćelija kod kojih je ispunjen zad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i usl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1"/>
          <p:cNvSpPr/>
          <p:nvPr/>
        </p:nvSpPr>
        <p:spPr>
          <a:xfrm>
            <a:off x="1600200" y="2257560"/>
            <a:ext cx="91440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98"/>
          <p:cNvSpPr/>
          <p:nvPr/>
        </p:nvSpPr>
        <p:spPr>
          <a:xfrm>
            <a:off x="5796000" y="3860640"/>
            <a:ext cx="2592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=SUMIF(A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:A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,”Jabuka”,B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:B</a:t>
            </a:r>
            <a:r>
              <a:rPr b="1" lang="sr-Latn-C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66"/>
                </a:solidFill>
                <a:latin typeface="Arial"/>
                <a:ea typeface="Times New Roman"/>
              </a:rPr>
              <a:t>Saberi  podatke od adrese B3 do adrese B7 ako je od adrese A3 do A7 vrednost ćelija=jabuk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Object 180"/>
          <p:cNvGraphicFramePr/>
          <p:nvPr/>
        </p:nvGraphicFramePr>
        <p:xfrm>
          <a:off x="5940360" y="1484280"/>
          <a:ext cx="231480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1484280"/>
                    <a:ext cx="23148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AutoShape 186"/>
          <p:cNvSpPr/>
          <p:nvPr/>
        </p:nvSpPr>
        <p:spPr>
          <a:xfrm>
            <a:off x="6300720" y="2060640"/>
            <a:ext cx="187164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87"/>
          <p:cNvSpPr/>
          <p:nvPr/>
        </p:nvSpPr>
        <p:spPr>
          <a:xfrm>
            <a:off x="6300720" y="2492280"/>
            <a:ext cx="1871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88"/>
          <p:cNvSpPr/>
          <p:nvPr/>
        </p:nvSpPr>
        <p:spPr>
          <a:xfrm flipV="1">
            <a:off x="7093080" y="3141000"/>
            <a:ext cx="1152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F0D9-F663-4D1E-BD8B-EB1E7EB6A2F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700360" y="428760"/>
            <a:ext cx="6391080" cy="58118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>
            <a:off x="2627280" y="1125360"/>
            <a:ext cx="6246720" cy="142920"/>
          </a:xfrm>
          <a:prstGeom prst="flowChartAlternateProcess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965400" y="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99"/>
                </a:solidFill>
                <a:latin typeface="Arial"/>
              </a:rPr>
              <a:t>Naziv radne sves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 flipH="1">
            <a:off x="3708000" y="189000"/>
            <a:ext cx="35892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0" y="260280"/>
            <a:ext cx="197964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Naslovana lin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Linija sa alatim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–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Form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66"/>
                </a:solidFill>
                <a:latin typeface="Arial"/>
              </a:rPr>
              <a:t>Formula 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Linija sa alatima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Dra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99"/>
                </a:solidFill>
                <a:latin typeface="Arial"/>
              </a:rPr>
              <a:t>Statusna Lin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1908000" y="404280"/>
            <a:ext cx="792360" cy="73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 flipV="1">
            <a:off x="1763640" y="1196640"/>
            <a:ext cx="3240000" cy="115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1908000" y="5229360"/>
            <a:ext cx="1440000" cy="57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 flipV="1">
            <a:off x="1908000" y="5950080"/>
            <a:ext cx="863640" cy="71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V="1">
            <a:off x="1619280" y="1052640"/>
            <a:ext cx="1008000" cy="50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 flipV="1">
            <a:off x="1547640" y="836640"/>
            <a:ext cx="1152720" cy="288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AF8-2894-4772-B6BE-E52BBB6320D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340000" y="189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Vežba6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unk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750"/>
          <p:cNvGraphicFramePr/>
          <p:nvPr/>
        </p:nvGraphicFramePr>
        <p:xfrm>
          <a:off x="1476360" y="1125360"/>
          <a:ext cx="640872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7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6408720" cy="5465880"/>
                  </a:xfrm>
                  <a:prstGeom prst="rect">
                    <a:avLst/>
                  </a:prstGeom>
                  <a:ln w="93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97" name="Object 752"/>
          <p:cNvGraphicFramePr/>
          <p:nvPr/>
        </p:nvGraphicFramePr>
        <p:xfrm>
          <a:off x="1476360" y="115920"/>
          <a:ext cx="1368360" cy="1068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98" name="Object 7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1592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82F-759B-432B-9E49-2BE3F367C84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7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7"/>
          <p:cNvGraphicFramePr/>
          <p:nvPr/>
        </p:nvGraphicFramePr>
        <p:xfrm>
          <a:off x="539640" y="1557360"/>
          <a:ext cx="403884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388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24120" y="813960"/>
            <a:ext cx="414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d57b5"/>
                </a:solidFill>
                <a:latin typeface="Tahoma"/>
              </a:rPr>
              <a:t>Apsolutno ad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2" name="Object 4"/>
          <p:cNvGraphicFramePr/>
          <p:nvPr/>
        </p:nvGraphicFramePr>
        <p:xfrm>
          <a:off x="4859280" y="1844640"/>
          <a:ext cx="4038480" cy="36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40384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AutoShape 6"/>
          <p:cNvSpPr/>
          <p:nvPr/>
        </p:nvSpPr>
        <p:spPr>
          <a:xfrm>
            <a:off x="2627280" y="2637000"/>
            <a:ext cx="792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6227640" y="2852640"/>
            <a:ext cx="79236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826920" y="260280"/>
            <a:ext cx="425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7d57b5"/>
                </a:solidFill>
                <a:latin typeface="Arial"/>
              </a:rPr>
              <a:t>Relativne adres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8380-FFC5-471B-9DFC-EDE9E6F724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2920" y="141264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66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971640" y="3213000"/>
            <a:ext cx="748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66"/>
                </a:solidFill>
                <a:latin typeface="Arial"/>
              </a:rPr>
              <a:t>Putokaz 5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66"/>
                </a:solidFill>
                <a:latin typeface="Arial"/>
              </a:rPr>
              <a:t>FORM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30F-A640-41BE-92DF-8946652E668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539640" y="836640"/>
            <a:ext cx="8136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Excel sadržaj ćelije prepoznaje kao formulu ukoliko je prvi znak sadržaja znak jednakosti (=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Iza znaka jednakosti mogu se unosit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adrese ćelij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brojevne vrijednosti (konstante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operato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62160" indent="528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funkcije.</a:t>
            </a:r>
            <a:r>
              <a:rPr b="1" lang="hr-H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66"/>
                </a:solidFill>
                <a:latin typeface="Tahoma"/>
              </a:rPr>
              <a:t>Putokaz 5: Form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292360" y="5589720"/>
            <a:ext cx="2879640" cy="1123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= “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B2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&amp;”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 &amp;”</a:t>
            </a:r>
            <a:r>
              <a:rPr b="0" lang="sr-Latn-CS" sz="1800" spc="-1" strike="noStrike">
                <a:solidFill>
                  <a:srgbClr val="cc0000"/>
                </a:solidFill>
                <a:latin typeface="Tahoma"/>
              </a:rPr>
              <a:t>A2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spajanje sadržaja ćelija sa tekstualnim podaci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684360" y="3762360"/>
          <a:ext cx="5976720" cy="1054080"/>
        </p:xfrm>
        <a:graphic>
          <a:graphicData uri="http://schemas.openxmlformats.org/drawingml/2006/table">
            <a:tbl>
              <a:tblPr/>
              <a:tblGrid>
                <a:gridCol w="519120"/>
                <a:gridCol w="1369800"/>
                <a:gridCol w="949320"/>
                <a:gridCol w="949320"/>
                <a:gridCol w="946080"/>
                <a:gridCol w="1243080"/>
              </a:tblGrid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oj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  <a:ea typeface="Arial"/>
                        </a:rPr>
                        <a:t>44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13" name="Rectangle 72"/>
          <p:cNvSpPr/>
          <p:nvPr/>
        </p:nvSpPr>
        <p:spPr>
          <a:xfrm>
            <a:off x="4506840" y="4941720"/>
            <a:ext cx="143208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A2+B2+C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73"/>
          <p:cNvSpPr/>
          <p:nvPr/>
        </p:nvSpPr>
        <p:spPr>
          <a:xfrm>
            <a:off x="6810120" y="4221000"/>
            <a:ext cx="17751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(A2+B2+C2)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826920" y="5516640"/>
          <a:ext cx="4038840" cy="984240"/>
        </p:xfrm>
        <a:graphic>
          <a:graphicData uri="http://schemas.openxmlformats.org/drawingml/2006/table">
            <a:tbl>
              <a:tblPr/>
              <a:tblGrid>
                <a:gridCol w="554040"/>
                <a:gridCol w="838440"/>
                <a:gridCol w="1357200"/>
                <a:gridCol w="1289160"/>
              </a:tblGrid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z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zime i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377d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101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Jeli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66"/>
                          </a:solidFill>
                          <a:latin typeface="Tahoma"/>
                          <a:ea typeface="Arial"/>
                        </a:rPr>
                        <a:t>Jelić 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416" name="Line 266"/>
          <p:cNvSpPr/>
          <p:nvPr/>
        </p:nvSpPr>
        <p:spPr>
          <a:xfrm flipV="1">
            <a:off x="5148360" y="465300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267"/>
          <p:cNvSpPr/>
          <p:nvPr/>
        </p:nvSpPr>
        <p:spPr>
          <a:xfrm flipH="1">
            <a:off x="6443280" y="4581360"/>
            <a:ext cx="57636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268"/>
          <p:cNvSpPr/>
          <p:nvPr/>
        </p:nvSpPr>
        <p:spPr>
          <a:xfrm flipH="1" flipV="1">
            <a:off x="4716000" y="6308640"/>
            <a:ext cx="360360" cy="144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AD8-3F37-43A0-BF8A-EC42FAE3055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19240" y="306360"/>
            <a:ext cx="467676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Aritmetički operato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00000" y="4076640"/>
          <a:ext cx="2951280" cy="2394000"/>
        </p:xfrm>
        <a:graphic>
          <a:graphicData uri="http://schemas.openxmlformats.org/drawingml/2006/table">
            <a:tbl>
              <a:tblPr/>
              <a:tblGrid>
                <a:gridCol w="781200"/>
                <a:gridCol w="21700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anje ili 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ć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gt;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eće ili 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=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Jednak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&lt;&gt;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azliči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042920" y="620640"/>
          <a:ext cx="2665440" cy="2371680"/>
        </p:xfrm>
        <a:graphic>
          <a:graphicData uri="http://schemas.openxmlformats.org/drawingml/2006/table">
            <a:tbl>
              <a:tblPr/>
              <a:tblGrid>
                <a:gridCol w="1033560"/>
                <a:gridCol w="163188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+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abir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–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duzima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*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Množe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/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eljen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^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Step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ostota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2" name="Picture 26" descr="er68"/>
          <p:cNvPicPr/>
          <p:nvPr/>
        </p:nvPicPr>
        <p:blipFill>
          <a:blip r:embed="rId2"/>
          <a:stretch/>
        </p:blipFill>
        <p:spPr>
          <a:xfrm>
            <a:off x="4572000" y="981000"/>
            <a:ext cx="3313080" cy="14241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2"/>
          <p:cNvSpPr/>
          <p:nvPr/>
        </p:nvSpPr>
        <p:spPr>
          <a:xfrm>
            <a:off x="395280" y="3357720"/>
            <a:ext cx="338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Operatori p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e</a:t>
            </a:r>
            <a:r>
              <a:rPr b="0" lang="sr-Latn-CS" sz="2400" spc="-1" strike="noStrike">
                <a:solidFill>
                  <a:srgbClr val="000066"/>
                </a:solidFill>
                <a:latin typeface="Arial"/>
              </a:rPr>
              <a:t>đe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90"/>
          <p:cNvSpPr/>
          <p:nvPr/>
        </p:nvSpPr>
        <p:spPr>
          <a:xfrm>
            <a:off x="5076720" y="2708280"/>
            <a:ext cx="3024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Prioritet izvršavanja</a:t>
            </a:r>
            <a:br>
              <a:rPr sz="2400"/>
            </a:b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 operacij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13440" y="3305160"/>
          <a:ext cx="1149480" cy="2190600"/>
        </p:xfrm>
        <a:graphic>
          <a:graphicData uri="http://schemas.openxmlformats.org/drawingml/2006/table">
            <a:tbl>
              <a:tblPr/>
              <a:tblGrid>
                <a:gridCol w="1149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^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*   /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+  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=   &lt;   &gt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c600"/>
                      </a:solidFill>
                    </a:lnL>
                    <a:lnR w="5760">
                      <a:solidFill>
                        <a:srgbClr val="00c600"/>
                      </a:solidFill>
                    </a:lnR>
                    <a:lnT w="5760">
                      <a:solidFill>
                        <a:srgbClr val="00c600"/>
                      </a:solidFill>
                    </a:lnT>
                    <a:lnB w="5760">
                      <a:solidFill>
                        <a:srgbClr val="00c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6" name="Text Box 113"/>
          <p:cNvSpPr/>
          <p:nvPr/>
        </p:nvSpPr>
        <p:spPr>
          <a:xfrm>
            <a:off x="5580000" y="57340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Arial"/>
              </a:rPr>
              <a:t>Vežba7: 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orm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115"/>
          <p:cNvSpPr/>
          <p:nvPr/>
        </p:nvSpPr>
        <p:spPr>
          <a:xfrm>
            <a:off x="6300720" y="1916280"/>
            <a:ext cx="792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16"/>
          <p:cNvSpPr/>
          <p:nvPr/>
        </p:nvSpPr>
        <p:spPr>
          <a:xfrm>
            <a:off x="6300720" y="981000"/>
            <a:ext cx="144000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9" name="Object 117"/>
          <p:cNvGraphicFramePr/>
          <p:nvPr/>
        </p:nvGraphicFramePr>
        <p:xfrm>
          <a:off x="4284720" y="5229360"/>
          <a:ext cx="1368360" cy="106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0" name="Object 1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522936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8B2-466B-4215-AAF7-84F573A88D8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#DIV/0!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Poruka upozorava da se pokušava deliti sa nulom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NAME?</a:t>
            </a:r>
            <a:r>
              <a:rPr b="0" lang="sr-Latn-C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program Exce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 razu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tekst formul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VALUE!</a:t>
            </a:r>
            <a:r>
              <a:rPr b="0" lang="sr-Latn-C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se pokušava rabiti pogrešan tip podatka ili pogrešan operand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#REF!</a:t>
            </a: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hr-HR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ruka upozorava da se u formuli koristi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esa ćelije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j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ispravna (radnja je nedozvoljena).</a:t>
            </a:r>
            <a:br>
              <a:rPr sz="2400"/>
            </a:br>
            <a:br>
              <a:rPr sz="2400"/>
            </a:br>
            <a:r>
              <a:rPr b="0" lang="hr-HR" sz="4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32" name="Object 6"/>
          <p:cNvGraphicFramePr/>
          <p:nvPr/>
        </p:nvGraphicFramePr>
        <p:xfrm>
          <a:off x="2627280" y="4437000"/>
          <a:ext cx="3768840" cy="216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437000"/>
                    <a:ext cx="37688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7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ruke o greškama</a:t>
            </a: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8" descr=""/>
          <p:cNvPicPr/>
          <p:nvPr/>
        </p:nvPicPr>
        <p:blipFill>
          <a:blip r:embed="rId3"/>
          <a:stretch/>
        </p:blipFill>
        <p:spPr>
          <a:xfrm>
            <a:off x="2556000" y="1989000"/>
            <a:ext cx="146520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9AB-613B-42D7-A4AE-2925A5B139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86920" y="1916280"/>
            <a:ext cx="2737080" cy="72720"/>
          </a:xfrm>
          <a:prstGeom prst="rect">
            <a:avLst/>
          </a:prstGeom>
          <a:noFill/>
          <a:ln w="0">
            <a:noFill/>
          </a:ln>
        </p:spPr>
        <p:txBody>
          <a:bodyPr tIns="27000" bIns="27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Excel</a:t>
            </a:r>
            <a:br>
              <a:rPr sz="4000"/>
            </a:br>
            <a:r>
              <a:rPr b="0" lang="sr-Latn-CS" sz="40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2411280" y="3983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ortiranje podat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419640" y="3068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Arial"/>
              </a:rPr>
              <a:t>Putokaz 6</a:t>
            </a:r>
            <a:r>
              <a:rPr b="0" lang="sr-Latn-C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B06-F8DD-4E1D-A5F5-E4458716DE8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7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Sortiranje  podataka</a:t>
            </a:r>
            <a:r>
              <a:rPr b="0" lang="hr-HR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d sortiranja prvo je potrebno  označiti sve ćelije čiji sadržaj treba sortir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(sortiraju se samo označeni podaci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tim treba birati: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eni</a:t>
            </a:r>
            <a:r>
              <a:rPr b="1" lang="hr-HR" sz="2800" spc="-1" strike="noStrike">
                <a:solidFill>
                  <a:srgbClr val="ff0000"/>
                </a:solidFill>
                <a:latin typeface="Tahoma"/>
              </a:rPr>
              <a:t> Data / Sort</a:t>
            </a:r>
            <a:r>
              <a:rPr b="0" lang="hr-HR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4" descr="ef103"/>
          <p:cNvPicPr/>
          <p:nvPr/>
        </p:nvPicPr>
        <p:blipFill>
          <a:blip r:embed="rId1"/>
          <a:stretch/>
        </p:blipFill>
        <p:spPr>
          <a:xfrm>
            <a:off x="3924360" y="3141720"/>
            <a:ext cx="3743280" cy="29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307-5642-4C87-B654-F39D40A1168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javit će se prozor u kome treba definisati polja po kojima se vrši sortiranje podata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4" descr="ef75"/>
          <p:cNvPicPr/>
          <p:nvPr/>
        </p:nvPicPr>
        <p:blipFill>
          <a:blip r:embed="rId1"/>
          <a:stretch/>
        </p:blipFill>
        <p:spPr>
          <a:xfrm>
            <a:off x="3492360" y="2565360"/>
            <a:ext cx="285912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AutoShape 5"/>
          <p:cNvSpPr/>
          <p:nvPr/>
        </p:nvSpPr>
        <p:spPr>
          <a:xfrm>
            <a:off x="3565440" y="2954160"/>
            <a:ext cx="1584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3564000" y="3573360"/>
            <a:ext cx="1584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3564000" y="4221000"/>
            <a:ext cx="1584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771640" y="321300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2771640" y="386064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2771640" y="4581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Sortiranje  podataka</a:t>
            </a:r>
            <a:r>
              <a:rPr b="0" lang="hr-HR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1" name="Picture 13" descr=""/>
          <p:cNvPicPr/>
          <p:nvPr/>
        </p:nvPicPr>
        <p:blipFill>
          <a:blip r:embed="rId2"/>
          <a:stretch/>
        </p:blipFill>
        <p:spPr>
          <a:xfrm>
            <a:off x="684360" y="2789280"/>
            <a:ext cx="1511280" cy="811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"/>
          <p:cNvPicPr/>
          <p:nvPr/>
        </p:nvPicPr>
        <p:blipFill>
          <a:blip r:embed="rId3"/>
          <a:stretch/>
        </p:blipFill>
        <p:spPr>
          <a:xfrm>
            <a:off x="755640" y="4724280"/>
            <a:ext cx="1467000" cy="685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15"/>
          <p:cNvSpPr/>
          <p:nvPr/>
        </p:nvSpPr>
        <p:spPr>
          <a:xfrm>
            <a:off x="2411280" y="5661000"/>
            <a:ext cx="59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Vež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Klikni na ikonicu i otvori radni list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rtir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4" name="Object 17"/>
          <p:cNvGraphicFramePr/>
          <p:nvPr/>
        </p:nvGraphicFramePr>
        <p:xfrm>
          <a:off x="1332000" y="5516640"/>
          <a:ext cx="1368360" cy="1068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5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32000" y="551664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F8E-FB29-413A-9766-FA79C17A7CE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42480" y="2584440"/>
            <a:ext cx="420876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3300"/>
                </a:solidFill>
                <a:latin typeface="Tahoma"/>
              </a:rPr>
              <a:t>Excel</a:t>
            </a:r>
            <a:br>
              <a:rPr sz="4000"/>
            </a:br>
            <a:r>
              <a:rPr b="0" lang="sr-Latn-CS" sz="4000" spc="-1" strike="noStrike">
                <a:solidFill>
                  <a:srgbClr val="800080"/>
                </a:solidFill>
                <a:latin typeface="Tahom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22"/>
          <p:cNvSpPr/>
          <p:nvPr/>
        </p:nvSpPr>
        <p:spPr>
          <a:xfrm>
            <a:off x="2627280" y="3860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3300"/>
                </a:solidFill>
                <a:latin typeface="Arial"/>
              </a:rPr>
              <a:t>Grafički prika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3"/>
          <p:cNvSpPr/>
          <p:nvPr/>
        </p:nvSpPr>
        <p:spPr>
          <a:xfrm>
            <a:off x="2843280" y="3068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3300"/>
                </a:solidFill>
                <a:latin typeface="Arial"/>
              </a:rPr>
              <a:t>Putokaz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7</a:t>
            </a:r>
            <a:r>
              <a:rPr b="0" lang="sr-Latn-CS" sz="3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8A13-17E3-482E-8707-D80566E0103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6751440" cy="6168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4384800" y="15573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olje za unos teksta i formul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adržaj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46520" y="1557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Adresa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2330280" y="1125360"/>
            <a:ext cx="729000" cy="2160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439040" y="24922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011040" y="414972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red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3411360" y="1125360"/>
            <a:ext cx="729000" cy="2160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2556000" y="1268280"/>
            <a:ext cx="6246720" cy="21600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2771640" y="1197000"/>
            <a:ext cx="1936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4067280" y="1196640"/>
            <a:ext cx="4334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H="1" flipV="1">
            <a:off x="8443440" y="1557000"/>
            <a:ext cx="180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586320" y="50846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Oznake radnog 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3045960" y="5373720"/>
            <a:ext cx="949320" cy="431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2268360" y="1484280"/>
            <a:ext cx="287640" cy="42498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 flipH="1" flipV="1">
            <a:off x="2484360" y="3933720"/>
            <a:ext cx="62568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9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1301760" cy="1311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182520" y="3716280"/>
            <a:ext cx="2018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Celu tabe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selektujemo ov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4E3-AAB6-4169-AAD0-9D7843F6936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00000"/>
                </a:solidFill>
                <a:latin typeface="Tahoma"/>
              </a:rPr>
              <a:t>Grafički prika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Grafički prikaz podataka je vrlo koristan jer omogućava pregledan vizuelni prikaz i poređenje podata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2205000"/>
            <a:ext cx="636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22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Grafik se umeć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20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Insert / Chart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hr-HR" sz="3200" spc="-1" strike="noStrike">
                <a:solidFill>
                  <a:srgbClr val="993300"/>
                </a:solidFill>
                <a:latin typeface="Arial"/>
              </a:rPr>
              <a:t>i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20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5" descr="eg1"/>
          <p:cNvPicPr/>
          <p:nvPr/>
        </p:nvPicPr>
        <p:blipFill>
          <a:blip r:embed="rId1"/>
          <a:stretch/>
        </p:blipFill>
        <p:spPr>
          <a:xfrm>
            <a:off x="5076720" y="2276640"/>
            <a:ext cx="3600720" cy="1998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63" name="AutoShape 6"/>
          <p:cNvSpPr/>
          <p:nvPr/>
        </p:nvSpPr>
        <p:spPr>
          <a:xfrm>
            <a:off x="5076720" y="2276640"/>
            <a:ext cx="614520" cy="285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5076720" y="3716280"/>
            <a:ext cx="1943280" cy="289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7380360" y="2637000"/>
            <a:ext cx="28728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>
            <a:off x="3276720" y="2852640"/>
            <a:ext cx="1871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 flipV="1">
            <a:off x="5364000" y="2997360"/>
            <a:ext cx="208764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79280" y="4581360"/>
            <a:ext cx="864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iz linije sa alatima - Standard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re izbora komande Chart treba selektovati blok ćelija koje želimo grafički prikaz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800000"/>
                </a:solidFill>
                <a:latin typeface="Arial"/>
              </a:rPr>
              <a:t>Nakon aktiviranja komande pojavljuje se niz čarobnja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671-C771-419A-B24A-6E3A1075CD1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Tahoma"/>
              </a:rPr>
              <a:t>UMETANJE GRAFIK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Čarobnjci za izradu grafikona omogućavaju  korisniku da kroz četiri koraka izaber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1 korak –biramo vrstu i podvrstu grafik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 i klikneno na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110000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podatke koji će biti grafički prikazani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2 korak – potvrđujemo oblast koju izabrali za grafičko prikazivanje , biramo da nizove prikazujeko kao redove ili kolone i klikneno na taster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3 korak – podešavamo opcije grafika, uključujući naslove, označavamo nazive podataka i mesto legende i pritisnemo na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NEXT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lnSpc>
                <a:spcPct val="110000"/>
              </a:lnSpc>
              <a:spcBef>
                <a:spcPts val="1514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800000"/>
                </a:solidFill>
                <a:latin typeface="Tahoma"/>
              </a:rPr>
              <a:t>4. korak- određujemo mesto na kome će stajati grafik i pritisnemo taster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“FINISH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586-365D-4EB5-B887-1004CEFF518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PRVO SE </a:t>
            </a:r>
            <a:r>
              <a:rPr b="1" lang="sr-Latn-CS" sz="2400" spc="-1" strike="noStrike">
                <a:solidFill>
                  <a:srgbClr val="800000"/>
                </a:solidFill>
                <a:latin typeface="Tahoma"/>
              </a:rPr>
              <a:t>SELEKTUJU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PODACI ZA KOJE SE ŽELI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APRAVITI GRAF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88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785-9A4F-464A-9CE9-08A902F4AD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095640" cy="240696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419200" cy="218268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pic>
        <p:nvPicPr>
          <p:cNvPr id="475" name="Picture 4" descr=""/>
          <p:cNvPicPr/>
          <p:nvPr/>
        </p:nvPicPr>
        <p:blipFill>
          <a:blip r:embed="rId3"/>
          <a:stretch/>
        </p:blipFill>
        <p:spPr>
          <a:xfrm>
            <a:off x="3132000" y="4686480"/>
            <a:ext cx="2419560" cy="2171520"/>
          </a:xfrm>
          <a:prstGeom prst="rect">
            <a:avLst/>
          </a:prstGeom>
          <a:ln w="9360">
            <a:solidFill>
              <a:srgbClr val="00c600"/>
            </a:solidFill>
            <a:miter/>
          </a:ln>
        </p:spPr>
      </p:pic>
      <p:sp>
        <p:nvSpPr>
          <p:cNvPr id="476" name="Rectangle 5"/>
          <p:cNvSpPr/>
          <p:nvPr/>
        </p:nvSpPr>
        <p:spPr>
          <a:xfrm>
            <a:off x="3277800" y="422100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LUMN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5580720" y="141300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INE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1404000" y="119700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IE” GRAFI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250920" y="692280"/>
            <a:ext cx="84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OGRAM EXCEL SEBI SADRŽI ŠIROK SPEKTAR RAZLIITIH GRAFIK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1E9-F366-411B-80BE-8788F3F7EFD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1. KORAK – VRSTA GRAFIKA- CHART TY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459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3300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Korisnik može odabrati neku od ponuđenih vrsta grafika</a:t>
            </a: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Picture 4" descr="eg2"/>
          <p:cNvPicPr/>
          <p:nvPr/>
        </p:nvPicPr>
        <p:blipFill>
          <a:blip r:embed="rId1"/>
          <a:stretch/>
        </p:blipFill>
        <p:spPr>
          <a:xfrm>
            <a:off x="2556000" y="1844640"/>
            <a:ext cx="4535280" cy="3854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83" name="AutoShape 5"/>
          <p:cNvSpPr/>
          <p:nvPr/>
        </p:nvSpPr>
        <p:spPr>
          <a:xfrm>
            <a:off x="2627280" y="2205000"/>
            <a:ext cx="1081080" cy="21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2050920" y="2276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7"/>
          <p:cNvSpPr/>
          <p:nvPr/>
        </p:nvSpPr>
        <p:spPr>
          <a:xfrm>
            <a:off x="2556000" y="2492280"/>
            <a:ext cx="1944720" cy="244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2449440"/>
              <a:gd name="textAreaBottom" fmla="*/ 2354760 h 2449440"/>
            </a:gdLst>
            <a:ahLst/>
            <a:rect l="textAreaLeft" t="textAreaTop" r="textAreaRight" b="textAreaBottom"/>
            <a:pathLst>
              <a:path w="21600" h="27205">
                <a:moveTo>
                  <a:pt x="3600" y="0"/>
                </a:moveTo>
                <a:arcTo wR="3600" hR="3600" stAng="16200000" swAng="-5400000"/>
                <a:lnTo>
                  <a:pt x="0" y="23605"/>
                </a:lnTo>
                <a:arcTo wR="3600" hR="3600" stAng="10800000" swAng="-5400000"/>
                <a:lnTo>
                  <a:pt x="18000" y="27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1476360" y="5950080"/>
            <a:ext cx="67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 DONJEM DELU PROZORA PRITISNE SE TASTER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NEXT”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9"/>
          <p:cNvSpPr/>
          <p:nvPr/>
        </p:nvSpPr>
        <p:spPr>
          <a:xfrm>
            <a:off x="5148360" y="5300640"/>
            <a:ext cx="100800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270-1340-4312-AD8A-BC502CAF2AE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468360" y="920880"/>
            <a:ext cx="4967280" cy="43862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"/>
          <p:cNvSpPr/>
          <p:nvPr/>
        </p:nvSpPr>
        <p:spPr>
          <a:xfrm>
            <a:off x="281520" y="5373720"/>
            <a:ext cx="88534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23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otvrđujemo oblast koju izabrali za grafičko prikazivanje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23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biramo da nizove prikazujeko kao redove ili kolone i klikneno na taster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NEX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5"/>
          <p:cNvSpPr/>
          <p:nvPr/>
        </p:nvSpPr>
        <p:spPr>
          <a:xfrm>
            <a:off x="1763640" y="3111480"/>
            <a:ext cx="1594080" cy="2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6012000" y="119700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Radni list i apsolutne adrese selektovane oblasti – proveravamo dali je to ono što smo selektov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7"/>
          <p:cNvSpPr/>
          <p:nvPr/>
        </p:nvSpPr>
        <p:spPr>
          <a:xfrm>
            <a:off x="1692360" y="3503520"/>
            <a:ext cx="861840" cy="430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3635280" y="4911840"/>
            <a:ext cx="997200" cy="24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9"/>
          <p:cNvSpPr/>
          <p:nvPr/>
        </p:nvSpPr>
        <p:spPr>
          <a:xfrm>
            <a:off x="468360" y="1023840"/>
            <a:ext cx="1060560" cy="243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0DF-C172-4E86-B837-7691D736BE6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86080" y="1125360"/>
            <a:ext cx="5857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Tahoma"/>
              </a:rPr>
              <a:t>Odabrani podaci mogu biti grupisani po kolonama ili po redovi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Picture 4" descr="eg5aa2"/>
          <p:cNvPicPr/>
          <p:nvPr/>
        </p:nvPicPr>
        <p:blipFill>
          <a:blip r:embed="rId1"/>
          <a:stretch/>
        </p:blipFill>
        <p:spPr>
          <a:xfrm>
            <a:off x="324000" y="1268280"/>
            <a:ext cx="2720880" cy="835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98" name="Rectangle 5"/>
          <p:cNvSpPr/>
          <p:nvPr/>
        </p:nvSpPr>
        <p:spPr>
          <a:xfrm>
            <a:off x="684360" y="4365720"/>
            <a:ext cx="7777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Od odabranog skupa podataka mogu se napraviti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dva niza, svaki sa po četiri podatka (</a:t>
            </a:r>
            <a:r>
              <a:rPr b="1" lang="hr-HR" sz="2400" spc="-1" strike="noStrike">
                <a:solidFill>
                  <a:srgbClr val="800000"/>
                </a:solidFill>
                <a:latin typeface="Arial"/>
              </a:rPr>
              <a:t>Rows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i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četiri niza, svaki sa po dva podatka (</a:t>
            </a:r>
            <a:r>
              <a:rPr b="1" lang="hr-HR" sz="2400" spc="-1" strike="noStrike">
                <a:solidFill>
                  <a:srgbClr val="800000"/>
                </a:solidFill>
                <a:latin typeface="Arial"/>
              </a:rPr>
              <a:t>Columns</a:t>
            </a:r>
            <a:r>
              <a:rPr b="0" lang="hr-HR" sz="2400" spc="-1" strike="noStrike">
                <a:solidFill>
                  <a:srgbClr val="8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6" descr="eg5aa1"/>
          <p:cNvPicPr/>
          <p:nvPr/>
        </p:nvPicPr>
        <p:blipFill>
          <a:blip r:embed="rId2"/>
          <a:stretch/>
        </p:blipFill>
        <p:spPr>
          <a:xfrm>
            <a:off x="1042920" y="2421000"/>
            <a:ext cx="7056360" cy="1538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0" name="Rectangle 7"/>
          <p:cNvSpPr/>
          <p:nvPr/>
        </p:nvSpPr>
        <p:spPr>
          <a:xfrm>
            <a:off x="3516480" y="3251160"/>
            <a:ext cx="4537080" cy="69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145-70AA-4D8B-AA89-77583113710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4278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Zavisno od načina grupisanja, grafik će izgledat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4" descr="eg5a"/>
          <p:cNvPicPr/>
          <p:nvPr/>
        </p:nvPicPr>
        <p:blipFill>
          <a:blip r:embed="rId1"/>
          <a:stretch/>
        </p:blipFill>
        <p:spPr>
          <a:xfrm>
            <a:off x="539640" y="2637000"/>
            <a:ext cx="3924360" cy="3028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04" name="Picture 5" descr="eg5b"/>
          <p:cNvPicPr/>
          <p:nvPr/>
        </p:nvPicPr>
        <p:blipFill>
          <a:blip r:embed="rId2"/>
          <a:stretch/>
        </p:blipFill>
        <p:spPr>
          <a:xfrm>
            <a:off x="4788000" y="2637000"/>
            <a:ext cx="3924360" cy="3014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5" name="AutoShape 6"/>
          <p:cNvSpPr/>
          <p:nvPr/>
        </p:nvSpPr>
        <p:spPr>
          <a:xfrm>
            <a:off x="4932360" y="5208480"/>
            <a:ext cx="1584360" cy="452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611280" y="5229360"/>
            <a:ext cx="1584360" cy="452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8"/>
          <p:cNvSpPr/>
          <p:nvPr/>
        </p:nvSpPr>
        <p:spPr>
          <a:xfrm flipH="1">
            <a:off x="6516720" y="5445000"/>
            <a:ext cx="50328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9"/>
          <p:cNvSpPr/>
          <p:nvPr/>
        </p:nvSpPr>
        <p:spPr>
          <a:xfrm flipH="1">
            <a:off x="2195640" y="5445000"/>
            <a:ext cx="50328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1694880" y="333360"/>
            <a:ext cx="49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2. KORAK  - Chart Source Data - Data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AEB-254B-40CA-B0B0-96F9350EB7A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eg7d"/>
          <p:cNvPicPr/>
          <p:nvPr/>
        </p:nvPicPr>
        <p:blipFill>
          <a:blip r:embed="rId1"/>
          <a:stretch/>
        </p:blipFill>
        <p:spPr>
          <a:xfrm>
            <a:off x="468360" y="4292640"/>
            <a:ext cx="2808360" cy="23652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11" name="Picture 3" descr="eg7b"/>
          <p:cNvPicPr/>
          <p:nvPr/>
        </p:nvPicPr>
        <p:blipFill>
          <a:blip r:embed="rId2"/>
          <a:stretch/>
        </p:blipFill>
        <p:spPr>
          <a:xfrm>
            <a:off x="4716360" y="836640"/>
            <a:ext cx="3961080" cy="2514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472920" y="3341520"/>
            <a:ext cx="51879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Omogućava postavljanje i uklanjan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prikaza vrednosti na os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0" lang="hr-HR" sz="2000" spc="-1" strike="noStrike">
                <a:solidFill>
                  <a:srgbClr val="800000"/>
                </a:solidFill>
                <a:latin typeface="Tahoma"/>
              </a:rPr>
              <a:t>m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utoShape 5"/>
          <p:cNvSpPr/>
          <p:nvPr/>
        </p:nvSpPr>
        <p:spPr>
          <a:xfrm>
            <a:off x="5292720" y="1052640"/>
            <a:ext cx="64944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1692360" y="4724280"/>
            <a:ext cx="458640" cy="23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920760" y="4653000"/>
            <a:ext cx="4385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Omogućava postavljanje i uklanj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prikaza legendi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8" descr="eg7"/>
          <p:cNvPicPr/>
          <p:nvPr/>
        </p:nvPicPr>
        <p:blipFill>
          <a:blip r:embed="rId3"/>
          <a:stretch/>
        </p:blipFill>
        <p:spPr>
          <a:xfrm>
            <a:off x="324000" y="836640"/>
            <a:ext cx="3168360" cy="2406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17" name="AutoShape 9"/>
          <p:cNvSpPr/>
          <p:nvPr/>
        </p:nvSpPr>
        <p:spPr>
          <a:xfrm>
            <a:off x="250920" y="1052640"/>
            <a:ext cx="511200" cy="25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324000" y="3284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Može se zadat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- naslov grafik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800000"/>
                </a:solidFill>
                <a:latin typeface="Arial"/>
              </a:rPr>
              <a:t>- nazivi 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Tahoma"/>
              </a:rPr>
              <a:t>3. KORAK – OBLIKOVANJE I OBELEŽJA GRAFIKA – Chart Op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C31-F7BA-4128-BF75-88D368D99D3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eg18"/>
          <p:cNvPicPr/>
          <p:nvPr/>
        </p:nvPicPr>
        <p:blipFill>
          <a:blip r:embed="rId1"/>
          <a:stretch/>
        </p:blipFill>
        <p:spPr>
          <a:xfrm>
            <a:off x="826920" y="1123920"/>
            <a:ext cx="2357640" cy="2879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21" name="Line 5"/>
          <p:cNvSpPr/>
          <p:nvPr/>
        </p:nvSpPr>
        <p:spPr>
          <a:xfrm>
            <a:off x="395280" y="14842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6"/>
          <p:cNvSpPr/>
          <p:nvPr/>
        </p:nvSpPr>
        <p:spPr>
          <a:xfrm>
            <a:off x="1042920" y="1268280"/>
            <a:ext cx="208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7" descr="eg8"/>
          <p:cNvPicPr/>
          <p:nvPr/>
        </p:nvPicPr>
        <p:blipFill>
          <a:blip r:embed="rId2"/>
          <a:stretch/>
        </p:blipFill>
        <p:spPr>
          <a:xfrm>
            <a:off x="3419640" y="1557360"/>
            <a:ext cx="4824360" cy="2278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24" name="Rectangle 8"/>
          <p:cNvSpPr/>
          <p:nvPr/>
        </p:nvSpPr>
        <p:spPr>
          <a:xfrm>
            <a:off x="2071800" y="47628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800000"/>
                </a:solidFill>
                <a:latin typeface="Arial"/>
              </a:rPr>
              <a:t>4. KORAK- MESTO SMEŠTANJA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1258920" y="4581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Na kraju j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mog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je odrediti da li je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trebno grafik postaviti u tek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 radnu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belu ili na prazan radni list. Ako s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stavi na novom listu zauz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tav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ostor i tako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biti štampan a ako se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p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stavi u okviru radne tabele on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ć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 biti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š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ampan kao objekat, tj.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o d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 tab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2DD-16B8-4A97-BF09-7A9D31F0911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C5 – 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dresa ćelije – presek kolone i red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er5b"/>
          <p:cNvPicPr/>
          <p:nvPr/>
        </p:nvPicPr>
        <p:blipFill>
          <a:blip r:embed="rId1"/>
          <a:stretch/>
        </p:blipFill>
        <p:spPr>
          <a:xfrm>
            <a:off x="324000" y="1125360"/>
            <a:ext cx="5041800" cy="3013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211640" y="184644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Arial"/>
                <a:ea typeface="Arial"/>
              </a:rPr>
              <a:t>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 flipH="1" flipV="1">
            <a:off x="3634920" y="1990800"/>
            <a:ext cx="44316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 rot="16200000">
            <a:off x="1120680" y="31366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kol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557440" y="2422440"/>
            <a:ext cx="71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Arial"/>
                <a:ea typeface="Arial"/>
              </a:rPr>
              <a:t>ćeli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333440" y="1125360"/>
            <a:ext cx="993960" cy="2900520"/>
          </a:xfrm>
          <a:custGeom>
            <a:avLst/>
            <a:gdLst>
              <a:gd name="textAreaLeft" fmla="*/ 48240 w 993960"/>
              <a:gd name="textAreaRight" fmla="*/ 945720 w 993960"/>
              <a:gd name="textAreaTop" fmla="*/ 48240 h 2900520"/>
              <a:gd name="textAreaBottom" fmla="*/ 2852280 h 2900520"/>
            </a:gdLst>
            <a:ahLst/>
            <a:rect l="textAreaLeft" t="textAreaTop" r="textAreaRight" b="textAreaBottom"/>
            <a:pathLst>
              <a:path w="21600" h="63017">
                <a:moveTo>
                  <a:pt x="3600" y="0"/>
                </a:moveTo>
                <a:arcTo wR="3600" hR="3600" stAng="16200000" swAng="-5400000"/>
                <a:lnTo>
                  <a:pt x="0" y="59417"/>
                </a:lnTo>
                <a:arcTo wR="3600" hR="3600" stAng="10800000" swAng="-5400000"/>
                <a:lnTo>
                  <a:pt x="18000" y="63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79280" y="1846440"/>
            <a:ext cx="518328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332000" y="1917720"/>
            <a:ext cx="498240" cy="1476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411280" y="234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3300"/>
                </a:solidFill>
                <a:latin typeface="Arial"/>
                <a:ea typeface="Arial"/>
              </a:rPr>
              <a:t>aktivna ćel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2"/>
          <p:cNvSpPr/>
          <p:nvPr/>
        </p:nvSpPr>
        <p:spPr>
          <a:xfrm flipH="1" flipV="1">
            <a:off x="1763640" y="1990440"/>
            <a:ext cx="609840" cy="392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3" descr="er5c"/>
          <p:cNvPicPr/>
          <p:nvPr/>
        </p:nvPicPr>
        <p:blipFill>
          <a:blip r:embed="rId2"/>
          <a:stretch/>
        </p:blipFill>
        <p:spPr>
          <a:xfrm>
            <a:off x="3641760" y="4406760"/>
            <a:ext cx="5111640" cy="2451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"/>
          <p:cNvSpPr/>
          <p:nvPr/>
        </p:nvSpPr>
        <p:spPr>
          <a:xfrm>
            <a:off x="6084720" y="530064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prostor za prikaz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sadržaja aktivne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5580000" y="5013360"/>
            <a:ext cx="3127320" cy="217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V="1">
            <a:off x="6227640" y="5157360"/>
            <a:ext cx="1800" cy="27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635280" y="5013360"/>
            <a:ext cx="1081080" cy="217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755640" y="515772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Adresa aktivne ćel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2987640" y="5084280"/>
            <a:ext cx="86364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20"/>
          <p:cNvSpPr/>
          <p:nvPr/>
        </p:nvSpPr>
        <p:spPr>
          <a:xfrm>
            <a:off x="5435640" y="6453360"/>
            <a:ext cx="807840" cy="226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659640" y="63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99"/>
                </a:solidFill>
                <a:latin typeface="Arial"/>
                <a:ea typeface="Arial"/>
              </a:rPr>
              <a:t>aktivna ćeli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6227280" y="6524640"/>
            <a:ext cx="4208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3" descr="er5e"/>
          <p:cNvPicPr/>
          <p:nvPr/>
        </p:nvPicPr>
        <p:blipFill>
          <a:blip r:embed="rId3"/>
          <a:stretch/>
        </p:blipFill>
        <p:spPr>
          <a:xfrm>
            <a:off x="5003640" y="5013360"/>
            <a:ext cx="567000" cy="222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4"/>
          <p:cNvSpPr/>
          <p:nvPr/>
        </p:nvSpPr>
        <p:spPr>
          <a:xfrm>
            <a:off x="5003640" y="4941720"/>
            <a:ext cx="576360" cy="3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3641760" y="40766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taster</a:t>
            </a:r>
            <a:r>
              <a:rPr b="0" lang="hr-HR" sz="2000" spc="-1" strike="noStrike">
                <a:solidFill>
                  <a:srgbClr val="ffff99"/>
                </a:solidFill>
                <a:latin typeface="Arial"/>
                <a:ea typeface="Arial"/>
              </a:rPr>
              <a:t> za otkazivanje i potvr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H="1">
            <a:off x="5292720" y="4437000"/>
            <a:ext cx="1440" cy="546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177-691E-48D9-BDBD-1DDDBD5BF2E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Object 10"/>
          <p:cNvGraphicFramePr/>
          <p:nvPr/>
        </p:nvGraphicFramePr>
        <p:xfrm>
          <a:off x="3708360" y="1995480"/>
          <a:ext cx="3324240" cy="203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95480"/>
                    <a:ext cx="33242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1187280" y="2127240"/>
          <a:ext cx="2087640" cy="1533600"/>
        </p:xfrm>
        <a:graphic>
          <a:graphicData uri="http://schemas.openxmlformats.org/drawingml/2006/table">
            <a:tbl>
              <a:tblPr/>
              <a:tblGrid>
                <a:gridCol w="1008360"/>
                <a:gridCol w="1079280"/>
              </a:tblGrid>
              <a:tr h="44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M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OD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AC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AJK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B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EST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80"/>
          <p:cNvSpPr/>
          <p:nvPr/>
        </p:nvSpPr>
        <p:spPr>
          <a:xfrm>
            <a:off x="3059280" y="450864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663300"/>
                </a:solidFill>
                <a:latin typeface="Arial"/>
              </a:rPr>
              <a:t>Vežba10: Klikni na ikonicu i otvori radni list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rafik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0" name="Object 82"/>
          <p:cNvGraphicFramePr/>
          <p:nvPr/>
        </p:nvGraphicFramePr>
        <p:xfrm>
          <a:off x="1692360" y="4508640"/>
          <a:ext cx="1368360" cy="106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31" name="Object 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508640"/>
                    <a:ext cx="1368360" cy="106812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138-7DC0-4769-AE5B-DB0EB06F83C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Object 4"/>
          <p:cNvGraphicFramePr/>
          <p:nvPr/>
        </p:nvGraphicFramePr>
        <p:xfrm>
          <a:off x="611280" y="2063880"/>
          <a:ext cx="403524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2063880"/>
                    <a:ext cx="403524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7"/>
          <p:cNvGraphicFramePr/>
          <p:nvPr/>
        </p:nvGraphicFramePr>
        <p:xfrm>
          <a:off x="1042920" y="4484520"/>
          <a:ext cx="4037040" cy="148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5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4484520"/>
                    <a:ext cx="4037040" cy="14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AutoShape 6"/>
          <p:cNvSpPr/>
          <p:nvPr/>
        </p:nvSpPr>
        <p:spPr>
          <a:xfrm>
            <a:off x="826920" y="2709720"/>
            <a:ext cx="93672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0"/>
          <p:cNvSpPr/>
          <p:nvPr/>
        </p:nvSpPr>
        <p:spPr>
          <a:xfrm>
            <a:off x="1547640" y="7880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brodošli na Informatiku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1"/>
          <p:cNvSpPr/>
          <p:nvPr/>
        </p:nvSpPr>
        <p:spPr>
          <a:xfrm>
            <a:off x="1835280" y="4653000"/>
            <a:ext cx="936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2"/>
          <p:cNvSpPr/>
          <p:nvPr/>
        </p:nvSpPr>
        <p:spPr>
          <a:xfrm>
            <a:off x="1042920" y="5589720"/>
            <a:ext cx="158436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0" name="Object 13"/>
          <p:cNvGraphicFramePr/>
          <p:nvPr/>
        </p:nvGraphicFramePr>
        <p:xfrm>
          <a:off x="5541840" y="3154320"/>
          <a:ext cx="3000600" cy="193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1840" y="3154320"/>
                    <a:ext cx="30006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EE0-631F-48A0-AEF2-3112048E286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Zadaci za vežb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var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š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st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Jednostavniji formati i funk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Motel 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l-testo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B29-5638-40EB-B7A9-265149CE00A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ff"/>
                </a:solidFill>
                <a:latin typeface="Tahoma"/>
              </a:rPr>
              <a:t>Unos datu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7280" y="1930320"/>
            <a:ext cx="701064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Da bi se vidjeli oblici zapisa podataka koje Excel prepoznaje kao datum, potrebno j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Format/Cell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Numbe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Date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ey31"/>
          <p:cNvPicPr/>
          <p:nvPr/>
        </p:nvPicPr>
        <p:blipFill>
          <a:blip r:embed="rId2"/>
          <a:stretch/>
        </p:blipFill>
        <p:spPr>
          <a:xfrm>
            <a:off x="4356000" y="2924280"/>
            <a:ext cx="3673440" cy="308448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5"/>
          <p:cNvSpPr/>
          <p:nvPr/>
        </p:nvSpPr>
        <p:spPr>
          <a:xfrm>
            <a:off x="5724360" y="3716280"/>
            <a:ext cx="1800360" cy="158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D0C-90AF-4281-8B62-03DDD69348C1}" type="slidenum">
              <a:t>5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5280" y="1265400"/>
            <a:ext cx="5726160" cy="5232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Na slici  je prikazan programski prozor  Microsoft Excel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. Brojevima od 1 do 6 označeni su važniji delovi programskog prozora. </a:t>
            </a:r>
            <a:br>
              <a:rPr sz="1800"/>
            </a:br>
            <a:r>
              <a:rPr b="0" lang="sr-Latn-CS" sz="1800" spc="-1" strike="noStrike">
                <a:solidFill>
                  <a:srgbClr val="ffffcc"/>
                </a:solidFill>
                <a:latin typeface="Tahoma"/>
              </a:rPr>
              <a:t>Napiši koji su to delovi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5"/>
          <p:cNvSpPr/>
          <p:nvPr/>
        </p:nvSpPr>
        <p:spPr>
          <a:xfrm flipH="1" flipV="1">
            <a:off x="684000" y="1989000"/>
            <a:ext cx="144360" cy="43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H="1" flipV="1">
            <a:off x="1547280" y="2060640"/>
            <a:ext cx="15116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1332000" y="3284640"/>
            <a:ext cx="503280" cy="504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468360" y="47242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507672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755640" y="2492280"/>
            <a:ext cx="3430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258920" y="3789360"/>
            <a:ext cx="342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843280" y="2708280"/>
            <a:ext cx="3427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1547640" y="5373720"/>
            <a:ext cx="343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763640" y="4508640"/>
            <a:ext cx="343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932360" y="2637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H="1">
            <a:off x="899640" y="5445000"/>
            <a:ext cx="647640" cy="505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6213600" y="250344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6213600" y="31510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6213600" y="38368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6213600" y="45226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6213600" y="181764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6213600" y="5208480"/>
            <a:ext cx="342720" cy="34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6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9"/>
          <p:cNvSpPr/>
          <p:nvPr/>
        </p:nvSpPr>
        <p:spPr>
          <a:xfrm>
            <a:off x="2411280" y="0"/>
            <a:ext cx="5112000" cy="476280"/>
          </a:xfrm>
          <a:custGeom>
            <a:avLst/>
            <a:gdLst>
              <a:gd name="textAreaLeft" fmla="*/ 30600 w 5112000"/>
              <a:gd name="textAreaRight" fmla="*/ 5081400 w 511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31678" h="21600">
                <a:moveTo>
                  <a:pt x="0" y="0"/>
                </a:moveTo>
                <a:lnTo>
                  <a:pt x="231678" y="0"/>
                </a:lnTo>
                <a:lnTo>
                  <a:pt x="231678" y="21600"/>
                </a:lnTo>
                <a:lnTo>
                  <a:pt x="0" y="21600"/>
                </a:lnTo>
                <a:close/>
              </a:path>
              <a:path fill="lightenLess" w="231678" h="21600">
                <a:moveTo>
                  <a:pt x="0" y="0"/>
                </a:moveTo>
                <a:lnTo>
                  <a:pt x="231678" y="0"/>
                </a:lnTo>
                <a:lnTo>
                  <a:pt x="230278" y="1400"/>
                </a:lnTo>
                <a:lnTo>
                  <a:pt x="1400" y="1400"/>
                </a:lnTo>
                <a:close/>
              </a:path>
              <a:path fill="darken" w="231678" h="21600">
                <a:moveTo>
                  <a:pt x="231678" y="0"/>
                </a:moveTo>
                <a:lnTo>
                  <a:pt x="231678" y="21600"/>
                </a:lnTo>
                <a:lnTo>
                  <a:pt x="230278" y="20200"/>
                </a:lnTo>
                <a:lnTo>
                  <a:pt x="230278" y="1400"/>
                </a:lnTo>
                <a:close/>
              </a:path>
              <a:path fill="darkenLess" w="231678" h="21600">
                <a:moveTo>
                  <a:pt x="231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78" y="20200"/>
                </a:lnTo>
                <a:close/>
              </a:path>
              <a:path fill="lighten" w="231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e</a:t>
            </a:r>
            <a:r>
              <a:rPr b="0" lang="sr-Latn-CS" sz="1800" spc="-1" strike="noStrike">
                <a:solidFill>
                  <a:srgbClr val="ffffff"/>
                </a:solidFill>
                <a:latin typeface="Comic Sans MS"/>
              </a:rPr>
              <a:t>žba 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Popuni prazna polja iza broje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DD4-0283-4017-B347-0C2831A20F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3168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Excel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39640" y="1916280"/>
            <a:ext cx="7272360" cy="30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99"/>
                </a:solidFill>
                <a:latin typeface="Arial"/>
              </a:rPr>
              <a:t>Putokaz 2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Komande za rad sa</a:t>
            </a: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adnim listovima</a:t>
            </a:r>
            <a:br>
              <a:rPr sz="2400"/>
            </a:br>
            <a:r>
              <a:rPr b="0" lang="sr-Latn-CS" sz="2400" spc="-1" strike="noStrike">
                <a:solidFill>
                  <a:srgbClr val="ffff99"/>
                </a:solidFill>
                <a:latin typeface="Arial"/>
              </a:rPr>
              <a:t>2. kolonama i red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CD1-B2A3-4B3F-A826-DFCABAB24B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utokaz 2: Radn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i</a:t>
            </a:r>
            <a:r>
              <a:rPr b="0" lang="hr-HR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lis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68000" y="1844640"/>
            <a:ext cx="6156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Insert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umetanje nov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Move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preme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nje ozna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Copy</a:t>
            </a:r>
            <a:r>
              <a:rPr b="0" lang="en-US" sz="2400" spc="-1" strike="noStrike">
                <a:solidFill>
                  <a:srgbClr val="eea3fb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–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kopiranje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– </a:t>
            </a: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Delete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–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brisanje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eea3fb"/>
                </a:solidFill>
                <a:latin typeface="Tahoma"/>
              </a:rPr>
              <a:t>- Rename – </a:t>
            </a:r>
            <a:r>
              <a:rPr b="0" lang="hr-HR" sz="2400" spc="-1" strike="noStrike">
                <a:solidFill>
                  <a:srgbClr val="ffff99"/>
                </a:solidFill>
                <a:latin typeface="Tahoma"/>
              </a:rPr>
              <a:t>promena imena označenog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ahoma"/>
              </a:rPr>
              <a:t>Tab Color…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promena boje radnog 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er11"/>
          <p:cNvPicPr/>
          <p:nvPr/>
        </p:nvPicPr>
        <p:blipFill>
          <a:blip r:embed="rId1"/>
          <a:stretch/>
        </p:blipFill>
        <p:spPr>
          <a:xfrm>
            <a:off x="179280" y="2781360"/>
            <a:ext cx="2144880" cy="2663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250920" y="1125360"/>
            <a:ext cx="8569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Desni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m</a:t>
            </a:r>
            <a:r>
              <a:rPr b="0" lang="sr-Latn-CS" sz="2400" spc="-1" strike="noStrike" u="sng">
                <a:solidFill>
                  <a:srgbClr val="ff3300"/>
                </a:solidFill>
                <a:uFillTx/>
                <a:latin typeface="Arial"/>
              </a:rPr>
              <a:t> klik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m</a:t>
            </a:r>
            <a:r>
              <a:rPr b="0" lang="sr-Latn-CS" sz="2000" spc="-1" strike="noStrike">
                <a:solidFill>
                  <a:srgbClr val="ffff99"/>
                </a:solidFill>
                <a:latin typeface="Arial"/>
              </a:rPr>
              <a:t> miša na liniju sa radnim listovima i biramo željenu naredbu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539280" y="1484280"/>
            <a:ext cx="3311640" cy="3602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179280" y="5173560"/>
            <a:ext cx="2043360" cy="27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7527960" y="2781360"/>
          <a:ext cx="1616040" cy="22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7960" y="2781360"/>
                    <a:ext cx="161604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051-7FF2-402E-A139-2FEB478CAA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9"/>
          <p:cNvSpPr/>
          <p:nvPr/>
        </p:nvSpPr>
        <p:spPr>
          <a:xfrm rot="360000">
            <a:off x="5551200" y="707760"/>
            <a:ext cx="3744720" cy="6148440"/>
          </a:xfrm>
          <a:prstGeom prst="verticalScroll">
            <a:avLst>
              <a:gd name="adj" fmla="val 12500"/>
            </a:avLst>
          </a:prstGeom>
          <a:solidFill>
            <a:srgbClr val="cffe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3456000" cy="907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Vežba2:</a:t>
            </a:r>
            <a:br>
              <a:rPr sz="4000"/>
            </a:b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Klikni na ikonicu i uradi vežb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634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omeniti nazive radnih listo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1           List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2           List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Sheet3           List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omeniti boju radnim listovi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Umetnuti između radnih listova List1 i List2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          </a:t>
            </a: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novi radni 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Novoumetnutom listu dati naziv Novil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Obrisati radni list Sheet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Premestiti Novilist na kraj li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12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99"/>
                </a:solidFill>
                <a:latin typeface="Tahoma"/>
              </a:rPr>
              <a:t>Copirati List1 u istu radnu sves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1979640" y="1700280"/>
            <a:ext cx="57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979640" y="1916280"/>
            <a:ext cx="57456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1908000" y="2276640"/>
            <a:ext cx="574920" cy="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796000" y="1052640"/>
            <a:ext cx="29876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Rešen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1.  D.K. – Re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2. D.K. – Tab Color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3. D.K. – Inser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4. kucati Novi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5. D.K. – Del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6. L.K. – Prevući na kra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linije sa radnim listovi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7.     D.K. Cop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čekirati opcij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sr-Latn-CS" sz="1800" spc="-1" strike="noStrike">
                <a:solidFill>
                  <a:srgbClr val="000099"/>
                </a:solidFill>
                <a:latin typeface="Arial"/>
              </a:rPr>
              <a:t>Create a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79280" y="5748480"/>
            <a:ext cx="640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Snimiti radnu sves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3"/>
          <p:cNvGraphicFramePr/>
          <p:nvPr/>
        </p:nvGraphicFramePr>
        <p:xfrm>
          <a:off x="0" y="0"/>
          <a:ext cx="1368360" cy="10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368360" cy="1068480"/>
                  </a:xfrm>
                  <a:prstGeom prst="rect">
                    <a:avLst/>
                  </a:prstGeom>
                  <a:ln w="936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9DA-E097-4321-9327-349756BA54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3:20:53Z</dcterms:created>
  <dc:creator>Computer</dc:creator>
  <dc:description/>
  <dc:language>en-US</dc:language>
  <cp:lastModifiedBy>DIZAJNERSKA SKOLA</cp:lastModifiedBy>
  <dcterms:modified xsi:type="dcterms:W3CDTF">2013-02-22T15:37:53Z</dcterms:modified>
  <cp:revision>126</cp:revision>
  <dc:subject/>
  <dc:title>Slide 1</dc:title>
</cp:coreProperties>
</file>